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6161-5735-4494-AB02-0F291BCE56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61BB-3E69-426B-92EB-BA1D24A685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A1C8-43F6-4D79-9A36-DF52089C8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8B21-7DB6-4825-B38D-A0DF989E4E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BE6-AC8E-46F0-8F02-A4B626C8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69D-03F1-4C0F-A07B-300A4CEB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4C5-52CB-4634-B35D-022D6102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478-1FC7-4311-BA26-BEDC3215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87EA-53D3-43CF-A663-D6A96122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2EC5-639C-4846-803B-80A9D90F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046D-257B-4B97-9E3F-479C5136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D2F4-1081-4FA4-9CA0-BEC4E8CF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97F8-DD7F-42BD-BDC9-2788672C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3EF0-9D0B-4475-802B-317C8FC1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3404-1313-4D92-853C-8D4C6DC4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88B-ADFE-4E23-BCB7-74A69CC3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3047-C000-4E5F-A722-49522F17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E616-CD00-4261-A583-499395F5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8E53-2A2B-449D-BD9D-17B4FDDA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D94A-690F-49AB-8575-E97774CA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DE7C-A162-4F23-8EA5-76BE8484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222-BF90-46DC-9697-50D30193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A25-E9A1-4536-93F7-46A6E49F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523-29B9-4ECE-931E-9041AE1D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E5B-3526-4EF5-AE11-D849F06D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70A-D734-432A-BE03-38247D7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70E-63B8-49BA-A001-D1F6F7F7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E37-1F09-4824-A4BE-AF1120DD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/>
                <a:ahLst/>
                <a:rect l="l" t="t" r="r" b="b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/>
                <a:ahLst/>
                <a:rect l="l" t="t" r="r" b="b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/>
                <a:ahLst/>
                <a:rect l="l" t="t" r="r" b="b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06C1-D206-43F2-AE6E-930174360C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5758-8E4F-4299-8553-0A778B0734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7 год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4797000"/>
            <a:ext cx="7058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лошина Людмила Иннокент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рач стат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УЗ ККИБ обособленное подразд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Центр профилактики и борьбы со СПИД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Забайкальском кра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3B41-52DE-4430-A16C-F1097FE9E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0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67280" y="3284640"/>
            <a:ext cx="259092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казываю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те пациенты с ВИЧ-инфекцией, которые были пролечены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отчетном году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а №61 </a:t>
            </a: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/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3860280"/>
            <a:ext cx="8229600" cy="25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1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2, 19 пред. года + 61, 2000, 1, 05+07+09 отч. года – 61, 2000, 1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8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3, 19 пред. года + 61, 2000, 8, 05+07+09 отч. года – 2000, 8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2BAD-ADD3-455D-A014-2C53F7C9D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й телефон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1-03-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AC35-F86E-4701-B284-9D21BE736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Инструкция по составлению государственного статистического отчета №61«Сведения о болезни, вызванной вирусом иммунодефицита человека» Москва,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«Методические рекомендации по порядку статистического учета и кодирования болезни, вызванной вирусом иммунодефицита человека (ВИЧ) в статистике заболеваемости и смертности» утвержденные МЗ РФ 28.06.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Информационная система AIDS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(центры СП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ока 1, графа 2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ловия контроля: строка 1, графа 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гр.3 (В20-24)+гр.4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этом допускается, что сумма гр. 2+3 может быть меньше гр.2 только на число пациентов, выявленных в течение 1-го месяца (декабрь текущего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F77C-ED54-44C9-B54F-7E7B18048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2, гр.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6C80-88D0-4407-87C1-B35A6D1EE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центрах СП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таб.3100, стр.1, гр.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3EDE-752A-4E59-83A9-01F5974BF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.61 таблица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97920" cy="583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40360" y="3573360"/>
            <a:ext cx="4572000" cy="228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-8, гр.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 стр.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0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.1, гр.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9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1000, стр. 57-58, гр.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 2000, гр. 4 и 10 формирую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4, стр. 1-8 = таб. 2000, гр. 10+гр.15, стр. 1-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10 стр. 1-8 = таб. 2000, гр. 11+гр.13+гр.14 стр. 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12A5-EC94-44CA-8378-D9E5FE1B5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A805-65E8-4010-B7D1-0A983BAAF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7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6000" y="3573360"/>
            <a:ext cx="26654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которые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следованы в отчет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1C62-A6BE-458D-9D3B-15ACDB2A11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tangl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2960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08720" y="3141720"/>
            <a:ext cx="316872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строке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казывается число пациентов с ВИЧ-инфекцией с проявл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Б (коды В20.0, В 20.7, В 22.7), умерших в отчетном году от всех причин, 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ются коды В20-В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e.tsybikova</dc:creator>
  <dc:description/>
  <dc:language>en-US</dc:language>
  <cp:lastModifiedBy>Центр</cp:lastModifiedBy>
  <dcterms:modified xsi:type="dcterms:W3CDTF">2017-12-08T06:39:06Z</dcterms:modified>
  <cp:revision>186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