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7074-AFB7-4536-A79B-D2299C6F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CBD6-40EB-4B0C-82EB-1D9F91FB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A409-C942-4EBF-A55C-961631052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112E-E839-4157-B975-22C1048E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06F5-0257-4ED2-B99C-0C6B8AED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3387-E0AB-4D8F-B923-67EC6286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F25C-AF32-4AB3-AA2C-5A3D1602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E2F9-36AB-4D27-8F1B-BEC4483F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168F-20CE-47AA-9BA2-64BBD73C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828E-AEF6-41DB-BB80-8EECB3FB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D72F-DB32-4B07-B954-2ACEA2F5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4750-52D3-484D-A51B-2BF5E56C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FF8A-FC74-43FE-81C6-8CCFF4EE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93EA-1E7D-4021-9FA7-BB562B07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F330-758E-44A1-8AFD-A98236D3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F19B-055F-46FB-BF65-54A9CCCA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756F-5EE1-4804-8960-0C5D972C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6FAF-6AD1-4DC5-BCE4-4699EB79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0617-5EAA-4B3F-BAEA-9DDF1CBE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D01F-D5D7-485B-BB1E-E9B94547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8615-EF71-4AC4-9E0C-D0C0BFDC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5DAF-45BE-439E-B92D-1B71587C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6172-5F64-412B-A392-7CE5CBE1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B432-C733-4D2B-B48D-F15DE5AE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B1D1-2FAA-4E7F-9930-8216825875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AAE2-E0A3-4B7F-B617-87F3810E33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31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а заполнен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 №№ 8 и 33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ичные ошиб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8229600" cy="34434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571680" y="4000680"/>
            <a:ext cx="8001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Данные по впервые выявленным больным в ф.33 должны быть меньше, чем в ф.8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.к. там все ведомства, а в ф.33 только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Другие локализации туберкулеза (стр.6 ф.33) соответствуют термину туберкулез внелегочных локализаций (стр.15-16 ф.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Инвалидность стр.8 больше суммы строк 9 и 10, т.к. еще есть 3 гру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Обследовано на АТ к ВИЧ (стр.11) относится только к больным туберкулез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 Положительный результат иммуноблотинга среди контингентов (стр.12 гр.7 )должен быть меньше или равен данным  ф61 табл.2000 стр.3 гр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. Число больных ТБ+ВИЧ (стр.13) может быть больше стр.12, т.к. включает в себя не только больных ТБ, у которых выявлен ВИЧ, но и больных ВИЧ, у которых выявлен Т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анные по учету больных ТБ+ВИЧ в ф.61 и ф.33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не меня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560" y="571680"/>
            <a:ext cx="86072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все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установлен диагноз впервые, но еще не взяты на диспансерный учет с диагнозом В20.0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 ф61т2000стр2.1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озами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0-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(6-1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установлен диагноз впервые, но еще не 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ф61т2000стр2.1гр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(5+6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.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конец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ег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5= ф33т2100стр13гр7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-17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8= ф33т2100стр13гр(8+9)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3 больше ф33т2100стр11гр(4+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(4+56+6) больше ф33т2100стр11гр(5+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7 больше ф33т2100стр11гр(6+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абл6000стр17гр 3 больше ф33табл2200стр12гр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619840" cy="13683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304920" y="1628640"/>
            <a:ext cx="865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В таблицах 2110 и 2120 бывают только арифметические ошиб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В таблиц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213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часто не обращают внимание на скобку, где указано из стр.1 гр.7, т.е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только больные 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607120" y="2254320"/>
            <a:ext cx="39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Выявление больных и некоторых групп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а 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42960" y="2786040"/>
          <a:ext cx="6095880" cy="2514600"/>
        </p:xfrm>
        <a:graphic>
          <a:graphicData uri="http://schemas.openxmlformats.org/drawingml/2006/table">
            <a:tbl>
              <a:tblPr/>
              <a:tblGrid>
                <a:gridCol w="5651640"/>
                <a:gridCol w="444240"/>
              </a:tblGrid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ена туберкулезного рекомбинантного в стандартном развед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IIIА группу диспансерного уче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V группу диспансерного учета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туберкулеза постоянных жителей, диагноз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ВИЧ-инфекции постоянных жителей, диагноз туберкулеза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9"/>
          <p:cNvSpPr/>
          <p:nvPr/>
        </p:nvSpPr>
        <p:spPr>
          <a:xfrm>
            <a:off x="324000" y="5429160"/>
            <a:ext cx="86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Сумма строк 2,4,5 должна быть равна строке 1 . Один больной показывается один раз, хотя он может быть обследован разными методами, но указывается только один метод вы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Не забыть, что данные стр.3 входят как часть в строку 2, а данные стр.6 -в стр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Сумма строк 11 и 12 меньше, чем сумма строк ф.8 табл.1000 стр.(33+34) гр.5 (посмертное выявление ТБ), т.к. табл. 2200 постоянные жители, а ф.8 – в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Object 26" descr=""/>
          <p:cNvPicPr/>
          <p:nvPr/>
        </p:nvPicPr>
        <p:blipFill>
          <a:blip r:embed="rId1"/>
          <a:stretch/>
        </p:blipFill>
        <p:spPr>
          <a:xfrm>
            <a:off x="714240" y="285840"/>
            <a:ext cx="9367920" cy="22860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85840" y="271476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Основная проблема – переход по возрасту из детей в подростки и из подростков во взрослые, перешедших по возрасту учитываем как выбывших в своей возрастной категории, а в следующей возрастной категории – как   прибывших. Иначе межгодовой баланс не сход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Умерших учитываем только из состоявших на уч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Object 27" descr=""/>
          <p:cNvPicPr/>
          <p:nvPr/>
        </p:nvPicPr>
        <p:blipFill>
          <a:blip r:embed="rId2"/>
          <a:stretch/>
        </p:blipFill>
        <p:spPr>
          <a:xfrm>
            <a:off x="285840" y="3860640"/>
            <a:ext cx="8707320" cy="9367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6"/>
          <p:cNvSpPr/>
          <p:nvPr/>
        </p:nvSpPr>
        <p:spPr>
          <a:xfrm>
            <a:off x="428760" y="514368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рафах 4,5,6 табл.2310 дополнительно к стр.7 табл.2300 указываются умершие от туберкулеза, не состоявшие на учете в ПТУ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рафах 2 (умерло от ТБ больных ТБ+ВИЧ)и 7(из умерших от других причин, умерло больных  ТБ+ВИЧ)  наоборот, показывают часть больных из строк 7 и 8 табл.2300 соответственно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227160" y="642960"/>
            <a:ext cx="8916840" cy="37227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4"/>
          <p:cNvSpPr/>
          <p:nvPr/>
        </p:nvSpPr>
        <p:spPr>
          <a:xfrm>
            <a:off x="179280" y="4643280"/>
            <a:ext cx="878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явлено больных с активным ТБ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ы табл.2400 стр.3 гр.6 рав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абл.2300 стр.2 гр.(3-4-5) +(9-10-11) (рецидивы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ы 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зято в текущем году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A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у строка 8 гр.3 не должно быть меньше, чем в табл.2200 стр.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42920" y="428760"/>
            <a:ext cx="8794800" cy="25225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357120" y="3143160"/>
            <a:ext cx="8429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следовано на МЛУ (стр.2) баланс не счит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явлена МЛУ (стр.3) по вертикали в графах 6-13 может быть больше строки 1 из-за бактериовыделителей, выявленных в прошлом году, у которых МЛУ выявлена в отчетном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Если баклаборатория не делает посевы или анализы на ЛЧ, надо это отдельно отмет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0" y="4581360"/>
            <a:ext cx="10152000" cy="4795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500040" y="50720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следовано на МБТ (сумма граф 1 и 2) должна быть больше количества в/в больных ТОД, т.к. каждого больного положено обследовать и скопией, и посе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0" y="5715000"/>
            <a:ext cx="9223200" cy="4348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8"/>
          <p:cNvSpPr/>
          <p:nvPr/>
        </p:nvSpPr>
        <p:spPr>
          <a:xfrm>
            <a:off x="864360" y="614376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14200" y="549360"/>
          <a:ext cx="8678880" cy="3178080"/>
        </p:xfrm>
        <a:graphic>
          <a:graphicData uri="http://schemas.openxmlformats.org/drawingml/2006/table">
            <a:tbl>
              <a:tblPr/>
              <a:tblGrid>
                <a:gridCol w="3372120"/>
                <a:gridCol w="309240"/>
                <a:gridCol w="766800"/>
                <a:gridCol w="881280"/>
                <a:gridCol w="776160"/>
                <a:gridCol w="879480"/>
                <a:gridCol w="846000"/>
                <a:gridCol w="847800"/>
              </a:tblGrid>
              <a:tr h="172800"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помощ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ых, состоящих на учете 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впервые в жизни установленным диагнозом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спитализировано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2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8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актериовыделител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1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дневные стационары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санатории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6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ы хирургические  методы лечения (всего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туберкулеза органов дыхания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о поводу ФКТ легки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но-суставного  туберкулез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моче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туберкулезом женских 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периферических лимфатических узл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 стационаре от туберкулеза больных, состоявших на  учет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Rectangle 1"/>
          <p:cNvSpPr/>
          <p:nvPr/>
        </p:nvSpPr>
        <p:spPr>
          <a:xfrm>
            <a:off x="2933640" y="189720"/>
            <a:ext cx="16289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6. Больничная и санаторная помощь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(2600)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д по ОКЕИ: человек - 7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179280" y="3714840"/>
            <a:ext cx="8964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аблица составлена наоборот сначала про контингенты, а потом про в/в.  Иногда пута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оспитализировано всего (строка 1) указываются люди, а не госпитализ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дин и тот же человек может быть госпитализирован сначала в стационар, потом в дневной стационар, потом в санаторий.  Показывать в строках (1,3,4) людей отдельно. Ничего не сумми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отличие от табл.2130, в строке 4 пишем всех, прошедших санаторное лечение, а не только больных Т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Хирургия (стр.5) тоже люди, а одному человеку можно сделать много операций по поводу разных локализаций, т.е. тоже пишем в каждую строку (6-11) людей, а не оп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мерло в стационаре от туберкулеза из состоявших на учете – это часть из табл.2300 стр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0" y="6070680"/>
            <a:ext cx="9647280" cy="6444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7"/>
          <p:cNvSpPr/>
          <p:nvPr/>
        </p:nvSpPr>
        <p:spPr>
          <a:xfrm>
            <a:off x="825480" y="6478560"/>
            <a:ext cx="41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Заполняют только те, кто использует этот ме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3"/>
          <p:cNvSpPr/>
          <p:nvPr/>
        </p:nvSpPr>
        <p:spPr>
          <a:xfrm>
            <a:off x="250920" y="5538960"/>
            <a:ext cx="87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26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 Кроме того, умерло от туберкулеза в туберкулезном стационаре больных, не состоявших на учете: взрослых  1___подростков 15-17 лет 2_______ детей 0 -14 лет   3_________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полнение к стр.12 табл. 2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81080" y="378000"/>
            <a:ext cx="8638920" cy="42033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179280" y="4508640"/>
            <a:ext cx="8964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лавное – правильно посчитать количество больных из формы прошлого года в строке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первые выявленные больные ТОД  (графы 3,5,6) берутся соответственно из табл.2100 строк 1,4, 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.4 прошлого года, а гр.4 из табл.2500 стр.1  гр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цидивы всего - из табл.2300 стр.1 гр.3 прошлого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цидивы бактериовыделители - из табл.2500 сумма граф 9 и 10 из строки 1 (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ы и из снятых с учета) прошлого г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ереведено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у (стр8) меньше разницы строк (1-2-3-4–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179280" y="6165720"/>
            <a:ext cx="8496360" cy="2620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834120" y="638172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0117080" cy="2519280"/>
          </a:xfrm>
          <a:prstGeom prst="rect">
            <a:avLst/>
          </a:prstGeom>
          <a:ln w="0">
            <a:noFill/>
          </a:ln>
        </p:spPr>
      </p:pic>
      <p:sp>
        <p:nvSpPr>
          <p:cNvPr id="155" name="TextBox 2"/>
          <p:cNvSpPr/>
          <p:nvPr/>
        </p:nvSpPr>
        <p:spPr>
          <a:xfrm>
            <a:off x="611280" y="3151080"/>
            <a:ext cx="824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заполняются из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. № 081/у «Медицинская карта больного туберкулёзом», т.к. ф.030-4/у на этих больных не завод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Часто, после выявления ТБ, при осмотре для поступления на работу, больных туберкулезом высылают из субъекта и дальше про них ничего не известно. Есть субъекты, которые даже не включают их в ф.8, т.к. не заполняют на них ф.089/у, что недопусти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Если больной все-таки лечился в данном учреждении, то его учитывают в строках 3-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Если больной умер во время лечения или без лечения, но диспансеру известно, что болел, то включаем его в строки 6 (всего) и 7(в стационар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о смерти из строки 6 включаются в табл.2310 строку1 графы 4-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о смерти в стационаре из строки 7 включаются в  табл.2610 строку 1 графы 1-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з раздела 6 «Больничная и санаторная помощ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блемы несогласования данных по туберкулезу в разных отчетных форм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5700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8 и Ф.1 Роспотребнадзора – в/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3 и ф.61 - сочетанная инфекция ВИЧ/ТБ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3 и Росстат - умершие от Т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3 и Росстат – инвалиды по Т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2(роддома) и ф.6 Роспотребнадзора – вакцинированные 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G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новорожденны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0 и ф.33 выявленные ФЛГ и бактериоскопией больные туберкулез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12 различается кодировка детей из 6 группы учета по 109 приказу (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76.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и по инструкции к ф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Z03.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8 и ф.7ТБ-ФСИН различаются по количеству впервые выявленных больных во ФСИ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полнение данных по профилактическим осмотрам на туберкулез в форм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13880" y="713880"/>
            <a:ext cx="7858440" cy="35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33 табл 2200                          и                              Ф30 табл 25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57120" y="1071720"/>
          <a:ext cx="3929040" cy="2717640"/>
        </p:xfrm>
        <a:graphic>
          <a:graphicData uri="http://schemas.openxmlformats.org/drawingml/2006/table">
            <a:tbl>
              <a:tblPr/>
              <a:tblGrid>
                <a:gridCol w="2419560"/>
                <a:gridCol w="226800"/>
                <a:gridCol w="476280"/>
                <a:gridCol w="428760"/>
                <a:gridCol w="377640"/>
              </a:tblGrid>
              <a:tr h="101880"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4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аллергена туберкулезного рекомбинантного в стандартном разведен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Содержимое 10" descr="2512.jpg"/>
          <p:cNvPicPr/>
          <p:nvPr/>
        </p:nvPicPr>
        <p:blipFill>
          <a:blip r:embed="rId1"/>
          <a:stretch/>
        </p:blipFill>
        <p:spPr>
          <a:xfrm>
            <a:off x="4359240" y="1071720"/>
            <a:ext cx="4326120" cy="35715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1"/>
          <p:cNvSpPr/>
          <p:nvPr/>
        </p:nvSpPr>
        <p:spPr>
          <a:xfrm>
            <a:off x="428760" y="3811680"/>
            <a:ext cx="38574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 строк 2,4,5 должна быть равна строке 1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больной показывается один раз, хотя он может быть обследован разными методами, но указывается только один ведущий метод вы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забы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данные стр.3 входят как часть в строку 2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данные стр.6 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онтроли с  ф.3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3=ф30т2512стр1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4=ф30т2512стр(1.1+1.2)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5=ф30т2512стр1.3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(2-3)гр(4+5)=ф30т2512стр4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3гр(4+5)=ф30т2512стр5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4гр3=ф30т2512стр2гр5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6гр3=ф30т2512стр3гр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14880" y="4785840"/>
            <a:ext cx="492912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равнение идет по 5 столб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ы не все методы выявления и для детей, и для взрос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роке 1 показываются все методы выявления но,                     также как в 33 форме, 1 человек – 1 метод (ведущ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1 больше суммы 2+3+4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зрослых  стр.1 больше суммы строк  2 и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етей  (1.1+1.2+1.3) больше суммы 4+5+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 6 частично входит в строку 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4728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5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019240" y="53352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евые осмотры на туберкуле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600" y="944640"/>
          <a:ext cx="9118800" cy="5913360"/>
        </p:xfrm>
        <a:graphic>
          <a:graphicData uri="http://schemas.openxmlformats.org/drawingml/2006/table">
            <a:tbl>
              <a:tblPr/>
              <a:tblGrid>
                <a:gridCol w="3251160"/>
                <a:gridCol w="433440"/>
                <a:gridCol w="749520"/>
                <a:gridCol w="812520"/>
                <a:gridCol w="704880"/>
                <a:gridCol w="1122480"/>
                <a:gridCol w="1290600"/>
                <a:gridCol w="75420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 3 – гр.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 туберкуле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 5 – гр.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:  1- 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- 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осмотренных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.1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орографиче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скопиче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ных детей (стр.1.1 + 1.2 + 1.3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ы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диагностика с применением аллергена бактерий с 2 туберкулиновыми единицами очищенного туберкулина в стандартном разве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диагностика с применением аллергена туберкулезного рекомбинантного в стандартном разве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lvl="2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огическое (флюорографическое) исследование органов грудной кле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95" name="Rectangle 485"/>
          <p:cNvSpPr/>
          <p:nvPr/>
        </p:nvSpPr>
        <p:spPr>
          <a:xfrm>
            <a:off x="4800600" y="3657600"/>
            <a:ext cx="3581280" cy="1143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к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е (рав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е строк 2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85"/>
          <p:cNvSpPr/>
          <p:nvPr/>
        </p:nvSpPr>
        <p:spPr>
          <a:xfrm>
            <a:off x="4800600" y="5029200"/>
            <a:ext cx="3581280" cy="13716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а строк 1.1 + 1.2 + 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е строк 4 + 5 +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ицу - пояс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1"/>
          <p:cNvSpPr/>
          <p:nvPr/>
        </p:nvSpPr>
        <p:spPr>
          <a:xfrm>
            <a:off x="228600" y="0"/>
            <a:ext cx="8534520" cy="609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ИМАНИЕ! МЕЖФОРМЕННЫЙ 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Формой №30-село, Формой  №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85"/>
          <p:cNvSpPr/>
          <p:nvPr/>
        </p:nvSpPr>
        <p:spPr>
          <a:xfrm>
            <a:off x="25560" y="1109520"/>
            <a:ext cx="4572000" cy="7621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дения включ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1 раз в году по основному мет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.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004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, ведущим территориальный регистр (картотеку) больных туберкулезом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только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на основе извещения ф.089у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торое заполняется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на каждого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первые выявленного больного туберкулезом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или рецидив и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присылаетс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в головное ПТУ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медучреждениями любой подчиненност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Минздрав, ФСИН, ФМБА, МО, ФМС, РЖД, психинтернат, детский дом и т.д. и т.п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50004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142920" y="5357880"/>
            <a:ext cx="8858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Сумма строк 9-10 и 11-12 больше общего числа впервые выявленных бактериовыдел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Сумма по нозологиям внелегочного туберкулеза (стр.17-25) меньше, чем всего (стр.15-16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.к. перечислены не все возможные локал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Обязательно заполнять строки ФСИН (30-31), иностранцы (28-29), БОМЖ (32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Если больной выявлен посмертно и одновременно он иностранец или из ФСИН, или БОМЖ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о указывать его только один раз в строках 33-34 – посмертное выявл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3712680" y="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6357600" y="4929120"/>
            <a:ext cx="98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Ж                       3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>
            <a:off x="3129120" y="40464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0 продол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70840" cy="1058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285840" y="2060640"/>
            <a:ext cx="860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 Рецидивы (стр.35-36) не включаются в строки 1-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. Бактериовыделители (стр.37-38) указываются 1 раз, а не так, как у впервые выявле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179280" y="4714920"/>
            <a:ext cx="8786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7. Жители других территорий включают как иностранцев (стр.28-29), так и жителей других субъектов Р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8. При проверке баланса между 8 и 33 формой (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того, как Вы сделаете контроли по МЕДСТАТУ и не получите 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разница получается за счет больных из МО, ФМБА и других ведомств, имеющих свои тубучреж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Данные ФМС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 впервые выявленным при освидетельствовании на право работы или проживания в России больным  туберкулезом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обязательно включать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 строки «иностранец» и/или житель другой территор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3129840" y="263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13"/>
          <p:cNvSpPr/>
          <p:nvPr/>
        </p:nvSpPr>
        <p:spPr>
          <a:xfrm>
            <a:off x="5796000" y="3284640"/>
            <a:ext cx="428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9612000" cy="131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9612360" cy="13176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ая соединительная линия 17"/>
          <p:cNvSpPr/>
          <p:nvPr/>
        </p:nvSpPr>
        <p:spPr>
          <a:xfrm>
            <a:off x="7596360" y="3284640"/>
            <a:ext cx="4284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1"/>
          <p:cNvSpPr/>
          <p:nvPr/>
        </p:nvSpPr>
        <p:spPr>
          <a:xfrm>
            <a:off x="3129840" y="407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571680" y="4500720"/>
            <a:ext cx="9612000" cy="1317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ая соединительная линия 24"/>
          <p:cNvSpPr/>
          <p:nvPr/>
        </p:nvSpPr>
        <p:spPr>
          <a:xfrm>
            <a:off x="4000680" y="4572000"/>
            <a:ext cx="4284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2630160" y="3500280"/>
            <a:ext cx="26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ычно проблем не возник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Типичные ошиб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400" y="928440"/>
            <a:ext cx="87152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заполнены строки ФС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ойной учет посмертно выявле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равильное формирование строк «Иностранные жители» и «Жители других территорий». Не надо бояться увеличения показателя заболеваемости за счет мигрант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пытка подогнать значения строк по выявлению бактериовыделителей среди в/в так, чтобы сумма выявления разными методами равнялась количеству людей-бактериовыдел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ммированием данных из форм, присланных районными ПТД и другими учреждениями МЗ РФ, имеющими фтизиатрические отделения (кабинеты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основе «Карты диспансерного наблюдения» ф.030-4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которой нет сведений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о методе выявления туберкулеза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жественной лекарственной устойчивости МБТ, сочетанной ТБ-ВИЧ инфекции и прочего.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         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 используютс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81/у «Медицинская карта больного туберкулёзом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66/у «Статистическая карта выбывшего из стационара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. № 106/у «Врачебное свидетельство о смерти»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ф. № 035/у «Журнал для записи заключений ЦВКК»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ф. № 04-ТБ/у «Журнал регистрации микроскопических      исследований на туберкулёз»</a:t>
            </a:r>
            <a:br>
              <a:rPr sz="2900"/>
            </a:br>
            <a:br>
              <a:rPr sz="29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4572000" y="285840"/>
            <a:ext cx="71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341928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.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07:54:17Z</dcterms:created>
  <dc:creator>User</dc:creator>
  <dc:description/>
  <dc:language>en-US</dc:language>
  <cp:lastModifiedBy>ZavOtdel</cp:lastModifiedBy>
  <dcterms:modified xsi:type="dcterms:W3CDTF">2018-12-21T03:50:57Z</dcterms:modified>
  <cp:revision>74</cp:revision>
  <dc:subject/>
  <dc:title>Недочеты при составлении форм ФСН №№ 30,47,12. Сопоставление данных из разных форм с формами №№ 8 и 33</dc:title>
</cp:coreProperties>
</file>