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98BE-B914-48B1-A845-32A627FF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81F7-CD3D-40EC-AC03-71FA5638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E5AE-1B22-4FEA-8474-4E6F7E65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FE52-8714-468E-A76B-AFE9A5C5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ED00-B1DF-402B-AB44-16E152B7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41C0-D881-4E15-82D5-E224FCEF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57DB-0160-4CB1-BCB0-2646B3B5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C4E2-6895-46E4-8BE9-4E36C605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0790-2F40-493D-BFBD-30E5F51A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F45A-702E-483C-B65D-D373405B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34EF-4477-4836-8736-A9DAD237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FF61-2095-44CF-AFB3-0765380E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C36C-D728-4609-BBE8-442380C0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766D-C943-4F37-B6C2-A0C841BA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A7BC-23C1-413F-92F9-CA51726B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5740-4276-4FCC-A688-0FA045AD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A380-A2F0-4657-980F-2EA175C0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BA7BD1-21A7-4134-B4B9-7ED55FA2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CEE7F-A12F-4410-9EE5-46F02128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076FE-5F19-4AB8-B1F9-EE22FA30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6019D-A5FC-42D7-A617-BD4926E2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E80475-DB51-42B2-A3F0-A148C23A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982A-C53F-465A-8231-8C903F2B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B3A290-B844-4A46-A386-DC7412E3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68DA45-E5EB-4E17-BDA5-4976457F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A8DEB-C97D-4030-BBFA-51BEB8EF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1770FE-46D9-46BD-9551-5817AD6E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17D88-0766-4368-B14D-567A582A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FBC97-F246-4706-B885-CEFDE576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91A26A-AA2E-4AD2-BBA3-F26FC2A9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B0ACE-D671-453C-A6D6-E17CC0E8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8AEE3-AD17-4812-8883-DAB2B198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BB86E-5362-4DD8-8F46-CAFDEA0C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8026-8DF3-4A31-B51E-D0DE577F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E389C-08F4-473C-8F67-D2F3D785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DC159-148A-403C-BAC8-442BC70C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3B32B-F2B8-4430-AC45-9945FA26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6C31D-7BE6-4793-A88F-EAB47AB8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D6CE0-4557-4C26-814A-142CB9CE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D9517-06B6-4C54-B78E-CE110299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68718-88C9-40CC-B0AA-69671EDD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537B9-B6DC-48F1-A9CC-FA5D2980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F2215-601E-4F99-9529-AD8E906F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FAA2-F861-403B-AD7F-D51085FA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669F-FD62-431B-8132-F6889EB7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8CF8-8099-4BCB-9DC0-DD826AC8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B578-893E-4137-8900-6AA36D9E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905A-0FE4-4D2E-B585-703BF785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3C7A-4C21-4925-BD41-28B279F19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6886-39C0-45F6-AD6F-75034B1ED2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F489-0870-4C2F-AEFA-BB57663685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F4B0-5156-4FB3-84D9-44ECB16F1D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424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РАЗДЕ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«ПАТОЛОГИЧЕСКАЯ АНАТОМ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ФОРМЫ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14 и 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Таблица 3" descr=""/>
          <p:cNvPicPr/>
          <p:nvPr/>
        </p:nvPicPr>
        <p:blipFill>
          <a:blip r:embed="rId1"/>
          <a:stretch/>
        </p:blipFill>
        <p:spPr>
          <a:xfrm>
            <a:off x="281160" y="1292400"/>
            <a:ext cx="8581680" cy="38653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"/>
          <p:cNvSpPr/>
          <p:nvPr/>
        </p:nvSpPr>
        <p:spPr>
          <a:xfrm>
            <a:off x="0" y="-468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Структура прижизненных патологоанатомических и цитологических диагностических исследований по категориям сл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(5501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– НЕ ЗАПОЛНЯТЬ!!!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142920" y="5667480"/>
            <a:ext cx="9001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395280" y="1197000"/>
            <a:ext cx="77770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7"/>
          <p:cNvSpPr/>
          <p:nvPr/>
        </p:nvSpPr>
        <p:spPr>
          <a:xfrm flipH="1">
            <a:off x="684360" y="1197000"/>
            <a:ext cx="79912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(5502 и 5505)</a:t>
            </a:r>
            <a:r>
              <a:rPr b="0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- ЗАПОЛНЯТЬ!!!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ы по ОКЕИ:   единица – 6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биопсийного и операционного материала 1 __________ , из ни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2 __________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цитологического материала 3 ___________ , 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4 __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Форма 30, таблица 5503</a:t>
            </a:r>
            <a:br>
              <a:rPr sz="36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«посмертные патологоанатомические исследования (вскрытия)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58560" y="1915920"/>
            <a:ext cx="8785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полняется строго на основе проведенн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патологоанатомических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вскрытий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разбивкой по категориям сложности: на мониторинге МЗ ЗК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каз № 601 от 06.12.2017 г. «О совершенствовании организации посмертного патологоанатомического исследования (вскрытия) в медицинских организациях Забайкальского края» - утверждён перечень категорий сложности патологоанатомических вскрыт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79280" y="260280"/>
          <a:ext cx="8721720" cy="6621480"/>
        </p:xfrm>
        <a:graphic>
          <a:graphicData uri="http://schemas.openxmlformats.org/drawingml/2006/table">
            <a:tbl>
              <a:tblPr/>
              <a:tblGrid>
                <a:gridCol w="4184640"/>
                <a:gridCol w="514440"/>
                <a:gridCol w="515880"/>
                <a:gridCol w="488880"/>
                <a:gridCol w="489240"/>
                <a:gridCol w="487080"/>
                <a:gridCol w="490680"/>
                <a:gridCol w="485640"/>
                <a:gridCol w="1065240"/>
              </a:tblGrid>
              <a:tr h="547920"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атегориям сложности (из графы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из гр.3 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не медицинских организаций, оказывающих медицинскую помощь 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4792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  муж.: 18–59 лет включ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–27 неде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ды на сроке менее 22 недель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20" name="Oval 178"/>
          <p:cNvSpPr/>
          <p:nvPr/>
        </p:nvSpPr>
        <p:spPr>
          <a:xfrm>
            <a:off x="4427640" y="2060640"/>
            <a:ext cx="360360" cy="2887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79"/>
          <p:cNvSpPr/>
          <p:nvPr/>
        </p:nvSpPr>
        <p:spPr>
          <a:xfrm>
            <a:off x="4427640" y="2421000"/>
            <a:ext cx="360360" cy="2872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80"/>
          <p:cNvSpPr/>
          <p:nvPr/>
        </p:nvSpPr>
        <p:spPr>
          <a:xfrm flipV="1">
            <a:off x="4427640" y="6524640"/>
            <a:ext cx="369720" cy="33336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81"/>
          <p:cNvSpPr/>
          <p:nvPr/>
        </p:nvSpPr>
        <p:spPr>
          <a:xfrm>
            <a:off x="4427640" y="5877000"/>
            <a:ext cx="360360" cy="217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бы заполнить таблицу 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5503 и ф. 14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Вам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Составить списки умерших с град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для Вашего удобства в работе – лучше в форм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блицы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возрастной групп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рудоспособный, не трудоспособный,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классам МК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наличию/отсутствию патологоанатомического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крытия с указанием сличения диагнозов и      категории сложности каждой аутоп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составленным спискам -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БЛАГОВРЕМЕННО сверить данные по вскрытиям с         ПАТОЛОГОАНАТОМАМИ !!!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Например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№ 1. Трудоспособный возра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484280"/>
          <a:ext cx="8229600" cy="518148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ванов Павел Петр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А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вусторонняя пневмония не уточненной этиолог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Расхожде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категория сложнос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рков Иван Семенови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ходжкинская лимфом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аева Анн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силь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вскры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ифр МКБ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пая травма живо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Например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блица № 2. Не трудоспособный возра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1600200"/>
          <a:ext cx="8229600" cy="510228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син Павел Иван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вусторонняя пневмония не уточненной этиолог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Совпа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категория сло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трова Ирина Семенов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торный ишемический инсуль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злов Петр Петр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вскры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ифр МКБ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ножественные ножевые ра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4358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Таблица 2402 – умершие на до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79280" y="836640"/>
          <a:ext cx="8785440" cy="5789520"/>
        </p:xfrm>
        <a:graphic>
          <a:graphicData uri="http://schemas.openxmlformats.org/drawingml/2006/table">
            <a:tbl>
              <a:tblPr/>
              <a:tblGrid>
                <a:gridCol w="1297080"/>
                <a:gridCol w="828720"/>
                <a:gridCol w="1063440"/>
                <a:gridCol w="1062360"/>
                <a:gridCol w="1063440"/>
                <a:gridCol w="1062000"/>
                <a:gridCol w="1111320"/>
                <a:gridCol w="1297080"/>
              </a:tblGrid>
              <a:tr h="679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тологоанато-миче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из графы 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ебно-медицин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шие на дому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де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спосо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е трудоспособ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числа умерших на дому: пациенты трудоспособного возраста* умерли от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х цереброваскуля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х заболевание (160-164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строго инфаркта миокарда (12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КОНТАКТЫ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(в течение рабочего дня)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едующая отделением общей и инфекционной патологии (г. Чита) – Гончарова Марина Александровн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1-43-02; 8-914-490-90-9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ский сектор (г. Чита) – Золотухина Анастасия Олег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1-42-98; 8-914-464-71-54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нокаменское ПаО – Шлапаков Вадим Викторович и Плакущая Надежда Владимировн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914-502-34-94; 8-914-145-23-7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едующая Первомайским ПаО – Старнавская Наталья Николае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914-512-42-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 классам МКБ-Х необходимо заполнить три табличных формы (2000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зросл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8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е трудоспособн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женщины 55 дет, мужчины 60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Де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 0 до 17 лет включ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8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мерло ВСЕ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-10 показываем всю летальность, наступившую в стационаре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включая классы «внешние причины смерти» (СМЭ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9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проведено патологоанатомических вскрыти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 показываем умерших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двергнутых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ПАТОЛОГОАНАТОМИЧЕСКОМУ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скрытию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!!!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е включая умерших от «внешних причин смерти» (СМЭ!!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10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становлено расхождений диагноз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по классам МКБ - количество расхождений (без учёта категории расхождения диагноза)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из числа умерших, подвергнутых патологоанатомическому вскрыт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179280" y="620640"/>
          <a:ext cx="8785440" cy="5924520"/>
        </p:xfrm>
        <a:graphic>
          <a:graphicData uri="http://schemas.openxmlformats.org/drawingml/2006/table">
            <a:tbl>
              <a:tblPr/>
              <a:tblGrid>
                <a:gridCol w="3246480"/>
                <a:gridCol w="924120"/>
                <a:gridCol w="1019160"/>
                <a:gridCol w="988920"/>
                <a:gridCol w="1373040"/>
                <a:gridCol w="1233720"/>
              </a:tblGrid>
              <a:tr h="142920"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зрослые 18 лет и стар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4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1"/>
          <p:cNvSpPr/>
          <p:nvPr/>
        </p:nvSpPr>
        <p:spPr>
          <a:xfrm>
            <a:off x="179280" y="112680"/>
            <a:ext cx="8572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ВОЗРАСТ – СТАЦИОНАРНАЯ ЛЕТАЛЬНОСТЬ   (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00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684360" y="201240"/>
            <a:ext cx="77864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Е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ТРУДОСПОСОБНЫЙ ВОЗР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836640"/>
          <a:ext cx="8713800" cy="5837040"/>
        </p:xfrm>
        <a:graphic>
          <a:graphicData uri="http://schemas.openxmlformats.org/drawingml/2006/table">
            <a:tbl>
              <a:tblPr/>
              <a:tblGrid>
                <a:gridCol w="3221280"/>
                <a:gridCol w="914400"/>
                <a:gridCol w="1012680"/>
                <a:gridCol w="981000"/>
                <a:gridCol w="1362240"/>
                <a:gridCol w="1222200"/>
              </a:tblGrid>
              <a:tr h="404640"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 старше  трудоспособного 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(с 55 лет у женщин и с 60 лет у мужч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2480" rIns="4248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00-Т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олез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836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324000" y="928800"/>
          <a:ext cx="8569080" cy="5716440"/>
        </p:xfrm>
        <a:graphic>
          <a:graphicData uri="http://schemas.openxmlformats.org/drawingml/2006/table">
            <a:tbl>
              <a:tblPr/>
              <a:tblGrid>
                <a:gridCol w="3020760"/>
                <a:gridCol w="733680"/>
                <a:gridCol w="863280"/>
                <a:gridCol w="986040"/>
                <a:gridCol w="988920"/>
                <a:gridCol w="988920"/>
                <a:gridCol w="987480"/>
              </a:tblGrid>
              <a:tr h="217440"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Дети (в возрасте 0-17 лет включительн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6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идной, кроветворной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ственных 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бласт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Rectangle 1"/>
          <p:cNvSpPr/>
          <p:nvPr/>
        </p:nvSpPr>
        <p:spPr>
          <a:xfrm>
            <a:off x="714240" y="153360"/>
            <a:ext cx="778680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Форма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аблица 55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«Прижизненные патологоанатомические исследования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не заполн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аблица 5501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уктура прижизненных патологоанатомических и цитологических диагностических исследований по категориям сложности» - </a:t>
            </a: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не заполн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357120" y="1195560"/>
          <a:ext cx="8358120" cy="5607000"/>
        </p:xfrm>
        <a:graphic>
          <a:graphicData uri="http://schemas.openxmlformats.org/drawingml/2006/table">
            <a:tbl>
              <a:tblPr/>
              <a:tblGrid>
                <a:gridCol w="5840640"/>
                <a:gridCol w="502920"/>
                <a:gridCol w="1008360"/>
                <a:gridCol w="1006200"/>
              </a:tblGrid>
              <a:tr h="91440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ны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анатом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исследованных после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истохимические диагност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истохимические диагностические исслед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иммуногистохимические диагностические исследова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иммуногистохимические диагност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иммуно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Rectangle 1"/>
          <p:cNvSpPr/>
          <p:nvPr/>
        </p:nvSpPr>
        <p:spPr>
          <a:xfrm>
            <a:off x="428760" y="43560"/>
            <a:ext cx="87865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Форма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. Деятельность патологоанатомического бюро (отдел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жизненные патологоанатомические диагностические исследования операционного и биопсийного материа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                                            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(5500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</a:rPr>
              <a:t> – НЕ ЗАПОЛНЯТЬ!!!)</a:t>
            </a:r>
            <a:r>
              <a:rPr b="0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89"/>
          <p:cNvSpPr/>
          <p:nvPr/>
        </p:nvSpPr>
        <p:spPr>
          <a:xfrm>
            <a:off x="179280" y="1125360"/>
            <a:ext cx="8713800" cy="5543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0"/>
          <p:cNvSpPr/>
          <p:nvPr/>
        </p:nvSpPr>
        <p:spPr>
          <a:xfrm flipH="1">
            <a:off x="179280" y="907920"/>
            <a:ext cx="8640720" cy="5761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214200" y="714240"/>
          <a:ext cx="8715600" cy="6088320"/>
        </p:xfrm>
        <a:graphic>
          <a:graphicData uri="http://schemas.openxmlformats.org/drawingml/2006/table">
            <a:tbl>
              <a:tblPr/>
              <a:tblGrid>
                <a:gridCol w="6089760"/>
                <a:gridCol w="525600"/>
                <a:gridCol w="1050840"/>
                <a:gridCol w="1049400"/>
              </a:tblGrid>
              <a:tr h="427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енет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енетические диагнос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ене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молекулярно-биолог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другие прижизненные дополнительные специальны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цит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Line 91"/>
          <p:cNvSpPr/>
          <p:nvPr/>
        </p:nvSpPr>
        <p:spPr>
          <a:xfrm>
            <a:off x="250920" y="404640"/>
            <a:ext cx="8642160" cy="6120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2"/>
          <p:cNvSpPr/>
          <p:nvPr/>
        </p:nvSpPr>
        <p:spPr>
          <a:xfrm flipH="1">
            <a:off x="468000" y="333360"/>
            <a:ext cx="8280360" cy="62643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3"/>
          <p:cNvSpPr/>
          <p:nvPr/>
        </p:nvSpPr>
        <p:spPr>
          <a:xfrm>
            <a:off x="3131640" y="16020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Не запол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User</cp:lastModifiedBy>
  <dcterms:modified xsi:type="dcterms:W3CDTF">2018-12-20T08:33:40Z</dcterms:modified>
  <cp:revision>68</cp:revision>
  <dc:subject/>
  <dc:title>Слайд 1</dc:title>
</cp:coreProperties>
</file>