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B388-DB5E-4D2D-B8B3-9E41CC8058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E130-572D-4BA7-A5B1-348E2CDC5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F68E-FDD2-401C-9189-9DDD7D51E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1871-13A3-414B-8F31-0F78A18B4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6D74-E442-4D69-AA5E-DF990E9C8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279-AE79-40A3-B1DD-43041B9A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390-09A3-456C-BDAC-BE7D33C2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9E8-CE9B-4BD7-846A-48C05BD6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D36-30B0-427B-9BCD-FA6AFD13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1107-2033-477A-8FC0-FA960A9C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17B8-556D-4253-961A-9A4BA616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799A-418B-404E-AE90-63C7DCD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12F0-B5FC-48FC-8020-E09BE36D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CEB6-4F4A-46FD-8214-4BBBD3A8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3F07-127B-4C53-99B8-2041E8CF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C726-B5BA-412F-8FDB-FB71B77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3E8-3289-4F33-896D-6A3706C2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C86F-93AD-456B-B1D4-BFD597AA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A13B-3D09-485A-8E29-8AB17612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C142-3008-4250-B5D8-9D94D48A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95C9-F411-4600-AD63-33B52FA9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88CF-F82C-4B00-B13C-527DD6CD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083-BB60-4208-A209-596D02F4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48E-02A7-4958-9048-B8C83777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584-B1B4-46D3-9802-89D619EC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1F0-FC74-41A4-9A64-6DCEB050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5D2-3849-49C8-AE9E-C5FD3953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D74-7693-4CF8-8CDB-55945B0D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834-9C40-47BD-B1AC-9B6F2AB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47C-4C2B-47AE-94D7-67E5B4BDFD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5CD9-7BDD-4B0A-8920-1D4A98651E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8 год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инздрава Забайкаль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№61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7/201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97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таблица 2000 1гр, 04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 61 таблицы 1000, 12гр, 19ст предыдущего года + форма 61, 2000, 1гр, ст 05+07+09 отчетного года –форма 61 2000, 1гр, 10 ст отчетн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2000 таблица, 8гр, 04 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, 1000, 13гр , 19ст предыдущего года + форма 61, 2000, 8гр, ст 05+07+09 отчетного года – 2000, 8гр, ст10 отчетного 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2D0B-6AA0-4A9B-B594-5966925F7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A0B2-3457-43AF-B3C5-CBBD64DD8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, графа 2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контроля: строка 1, графа 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афе.3 (В20-24) +графе.4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пускается, что сумма граф. 2+3 может быть меньше графа.2 только на число пациентов, выявленных в течение 1-го месяца (декабрь текущего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811E-2ACE-43B6-963A-C756D1A9A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836640"/>
            <a:ext cx="8300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 1+2, графы.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2, графы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5+46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 47+4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.1000, строки.1+2, графы.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1-4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3-4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ки.49-5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51-5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B66A-9E1D-4AF6-97AF-2152A5888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.57- 60, графы.5-1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57-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 59-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блицы.3100, строки.1, графы.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ADF3-663E-4EF6-B6A5-871973450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и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лицы.3100, строки.1, графы.3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3100, строки.1, графы.4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1000, строк.57-58, графа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7CE7-A266-4B51-BF13-875097C5A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D71-86D6-4B97-A195-25FD23B7A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четном году –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BFA3-3616-43FB-B45A-C2CE29155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9685-A45F-4E40-BD4D-5EAC624C0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140F-CC16-4FD3-B616-694D78000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8-12-20T05:02:31Z</dcterms:modified>
  <cp:revision>187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