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3AB-1F1E-4276-AE24-814039A0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49A-116A-48CF-B148-8BD51C2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99F-CDC7-4AD3-852A-73E33E64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76C-6B64-495F-927D-47E7AA61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B69-F134-4113-8FBD-9B3AAED4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200-3848-4F28-AFD0-432DB2E3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DA6F-FC13-4C0D-B51D-0E16B8A1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284C-B4F1-427D-B79A-3A1867A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A4F9-D824-46EC-9128-06729E1E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DE2E-0563-4EEB-90DB-BA0C98A6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C275-3539-44B1-8759-D5A7BA7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F22-93D2-43CE-BAB3-E8C97FD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5045-B7E3-4B1A-895C-A0956531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6EF9-BA70-48B7-BA89-DC81BD0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E450-A04A-4702-8F8F-9675F0EA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CD4C-B361-4493-A3AB-E8F39D46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E9D7-870C-4B41-A99A-F1E5964B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C289-DAE8-4C82-BD4C-D79538E3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7246-0F6E-4528-8062-A7971820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62A0-D2D1-4218-AEB7-0BE8FCB4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31D0-E251-46E7-8744-D3B2B12F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76A0-1787-425B-9246-182F7363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429-93C1-4963-B1E0-8F17644B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69D6-5108-41D3-BC53-F53AB46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6C78-4A26-45F0-B60B-ADF2FEA5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3912-74DB-4969-B895-CEFBC86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F31D-20BE-4F72-99CC-957FB7C4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8ACA-8FC5-4F01-899C-EDB0576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0CA0-A961-4D5F-85EB-E8082E3A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5A62-AB91-4A0E-896F-A4AB9DFD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3A19-A02E-46EF-B744-4031AB0F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8D81-8D27-450C-AC04-E2F5C71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68A2-67CD-42DD-B259-E9253E6C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D50-7E09-48D3-8155-77E0BDCF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D215-D279-4AC3-8E5B-9B0C8EA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F6912-1B0E-4431-BDF6-7633A426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2BD5-E275-4B8E-89BF-B8C9667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E3D0-1A36-4770-BAD7-2F2F3651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9645-3BCD-4BDA-B1AF-82C27D9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60EE-B480-46F0-BCB7-9E951A5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3980-D7FC-4470-971F-436943C5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2ADE-2BEB-4750-BEF5-C74ACFC7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FF84-A5F2-475D-A33E-6243641A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7E0-246E-4541-ACA1-481D8FA7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75F-D874-4223-87C8-1890A76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4CD-7406-4817-8FF4-3B346217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262-CAAB-4A36-B032-10A3656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325-D636-40E5-87C6-1C8FB1D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B1E-55A9-43EB-AEB4-96FE7E10C5E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9ED1-639A-47DB-BA07-6616458DE39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CD2B-9702-4942-99C7-0D9AC7ACCB9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97C3-C515-4AB8-849B-618596089F5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8070840" cy="394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15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onstantia"/>
              </a:rPr>
              <a:t>Брендирование автомобилей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ализация мероприятий по приобретению медицинского автомобильного транспорта в 2021-2022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Главная медсестра\Desktop\авто у приемного — копия.jpg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Главная медсестра\Desktop\авто у гаража.jpg"/>
          <p:cNvPicPr/>
          <p:nvPr/>
        </p:nvPicPr>
        <p:blipFill>
          <a:blip r:embed="rId2"/>
          <a:stretch/>
        </p:blipFill>
        <p:spPr>
          <a:xfrm>
            <a:off x="4648320" y="26272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орловская участковая больн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1 год – 16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2 год - 1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Users\Главная медсестра\Desktop\нуб нива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xuJLec</dc:creator>
  <dc:description/>
  <dc:language>en-US</dc:language>
  <cp:lastModifiedBy>Главная медсестра</cp:lastModifiedBy>
  <dcterms:modified xsi:type="dcterms:W3CDTF">2022-11-11T09:06:4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