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9000-CB84-482A-8220-00D86B7DB0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BFEC-9A14-4F17-A094-300043623FC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0" name="Text Box 2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7555-5ED9-4639-A9EF-AA0B7E347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85D5-1048-425E-BBF3-D5542A0C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35EF-6EEE-46BE-905A-97C9FF4AA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BA4A-FDA3-4F6D-A49B-D55929E7F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E423-03E6-498A-A686-0BD977EE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0175-257A-47C1-B9A4-2985BA9D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544C-DF3D-4ED8-80B2-EC154EA0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BDF5-B5F7-457A-90D3-9CF96846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7B3F-F5A5-4E12-8670-1D945844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F8FE-EB3E-4E15-A253-ABD849BF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0324-1C75-43EA-BAA7-0FE66D57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51AE-7594-49BB-9E3C-3CDE228C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5C01-ABD6-4702-A05A-440D800240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довой отчет за 2019 г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ункциональная диагност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яснительная запис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95280" y="1989000"/>
          <a:ext cx="8353440" cy="1870200"/>
        </p:xfrm>
        <a:graphic>
          <a:graphicData uri="http://schemas.openxmlformats.org/drawingml/2006/table">
            <a:tbl>
              <a:tblPr/>
              <a:tblGrid>
                <a:gridCol w="466560"/>
                <a:gridCol w="1646280"/>
                <a:gridCol w="1290600"/>
                <a:gridCol w="773280"/>
                <a:gridCol w="1033560"/>
                <a:gridCol w="1788840"/>
                <a:gridCol w="1354320"/>
              </a:tblGrid>
              <a:tr h="239040"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О врач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й или совмест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если совместитель – основная специальность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ж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исследования, которые выполня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исследования, которыми владе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Box 4"/>
          <p:cNvSpPr/>
          <p:nvPr/>
        </p:nvSpPr>
        <p:spPr>
          <a:xfrm>
            <a:off x="324000" y="1484280"/>
            <a:ext cx="43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Д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324000" y="414972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ППА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95280" y="4797360"/>
          <a:ext cx="8353440" cy="365040"/>
        </p:xfrm>
        <a:graphic>
          <a:graphicData uri="http://schemas.openxmlformats.org/drawingml/2006/table">
            <a:tbl>
              <a:tblPr/>
              <a:tblGrid>
                <a:gridCol w="520560"/>
                <a:gridCol w="2916360"/>
                <a:gridCol w="2227320"/>
                <a:gridCol w="1481040"/>
                <a:gridCol w="120816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готов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од ввода в эксплуатац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х. состоя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се компьютерные электрокардиографы – аппараты (Кардиометр, Поли-Спектр,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CG-Easy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CG-Dongle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(кардиофлешка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се ультразвуковые методы (ЭхоКГ, УЗДГ сосудов, ЭхоЭГ, нейросонография) –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30 форме – в отчет по УЗИ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о в пояснительной записке указать количество и на каком аппарат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ульсоксиметрию в рамках врачебного осмотра в отчет не вноси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611280" y="1341360"/>
            <a:ext cx="784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ркан Виталий Станислав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рожная клиническая больница на ст.Чита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А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РЖД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Чита, ул.Горбунова,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 раб:  8 914 516 570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 сот:   8 924 270 933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taly.barkan@yandex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19T00:55:17Z</dcterms:created>
  <dc:creator>пк</dc:creator>
  <dc:description/>
  <dc:language>en-US</dc:language>
  <cp:lastModifiedBy>пк</cp:lastModifiedBy>
  <dcterms:modified xsi:type="dcterms:W3CDTF">2019-12-19T04:31:56Z</dcterms:modified>
  <cp:revision>20</cp:revision>
  <dc:subject/>
  <dc:title>Слайд 1</dc:title>
</cp:coreProperties>
</file>