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F1A-39E1-49FF-81D8-9F147BD7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5EE-84A1-4F33-ACFC-F8AB1FD4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B77D5-3A90-4363-9390-EF0A6EA9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6FA17-ED8B-434C-8FF2-1AD3BDB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9311E-56B0-4690-A206-88439655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5AB71-48E6-493C-8D2B-62AA0A7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333CD-15A0-4D9B-A6E5-DECCBEAD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2BCB9-6105-406E-BED9-9C729450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9FEAA-4148-4CE7-B158-3302512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4B85E-F85C-4A0D-8D0E-41BAF594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DBDC2-23B3-4A58-87A4-84C2A803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2EFA4-7857-4641-90B3-A9948971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292-0A69-4A99-9737-280A253E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94474-41D3-4C2C-9F57-1913EC84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C746A-9E4A-489F-AF17-8F5FE118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97806-D08E-42DF-9F83-65359B0D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6155D-5DE9-4BD7-9158-4CAED7D1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E7C9F-D3F6-4D87-ACE5-C198F3A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5A66C-6BED-42B6-B693-75808CB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50164-4E53-46DA-B755-92F6368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6070B-78B0-48F2-92CB-48AA9E19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6F08F-CA0E-40FF-9936-6ADD5CD6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494BE-E74E-40F5-80CA-60F2640E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674-E24A-4A08-9850-05C6BBD3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35EC4-34BF-418C-B6F5-3E1E32A9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ABC44-1080-49E9-B858-78B407C5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EDEBE-3ADF-4E4B-8E22-AFECA779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78591-299B-42AD-A893-C7F9AA7A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0A77B-C26C-4057-9991-05F9C4F5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B1C5-6122-41E5-ACD9-67B640A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60044-3B54-4A82-96ED-5C62462E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31383-E74A-43EE-B835-A1C62AEC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CD289-3C79-4511-8803-E031309C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6C9D6-726B-4F3C-A355-8FF90503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FC91-5F86-41BB-9745-F59BB31F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6F87F-A4CE-45D6-9EC1-239E4E92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5F0E4-E011-4C41-B9A5-31E8DAE7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9A064-3E8C-422E-A639-8BD2629E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6953C-479D-4AFE-A198-AAF5CF55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D0904-920B-4632-B9D2-6AC6EB50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9F476-E7F9-424D-9B59-258B808F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5E0CF-325B-4340-80D5-6904A244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82A07-1F82-457F-AB01-13FA9FCC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D3DF4-A844-4A83-8A77-FAE01561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A52F2-B783-4AD9-96FF-E37B5529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2974-BD65-41A9-B43D-5F5662C3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0EEA6-2240-4ED1-9A3B-BDC1CDC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6F93B-EE5E-4954-A4FD-1FC7DCE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873F7-30BE-480F-8205-1D6C2118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C8D2C-3377-48F7-8D4C-506C90AA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B8916-AD65-4ABB-8A64-36982227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964CA-39BD-4BD8-8F4D-532E2CE0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3BC51-70E9-4E37-A266-79A4DED9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E61D9-413F-41FA-8166-3B1BF427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0BDAA-E5E0-4458-AFFA-14BB4447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EF45F-6D03-476F-B2B5-AD989689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F1B0-521D-4352-9A77-AD50AE92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2EF07-FD7F-4DE7-955B-20FDA45A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16E9C-6EB3-4422-A70A-9C78EC7D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517D8-2CE2-4950-8994-F4242D86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4EEFC-99FE-4B95-ADF9-50B46A19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7E1D4-1662-4460-AD11-330D7652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60EA7-1A2A-4DD2-8316-B5F8656D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A0C60-A212-4D84-8670-D52CB576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EFD35-4069-432C-8E94-80AD608C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6F930-83E0-42BA-9AB8-B9B572D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3241E-70D3-402A-85C7-18347713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657-60EF-4188-AA45-402CE88F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89A50-4EE6-41FE-912A-40C25B91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E0CE8-7E64-4048-B5DC-88DFF822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D1DA5-D0E1-4719-A4E7-ECA50CC2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2716A-E591-4645-90CC-6179F5FF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D2FAA-5021-41DF-A979-D5C4F81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EB5EA-06E9-4801-9378-1339894B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589AA-691F-4DE7-B3C7-BD67F483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80CC2-7A8C-47F0-9E79-A3EE34ED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B6618-3B44-450C-BE30-25840674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09056-E31B-48A8-A4E7-36C06089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31A9-8E33-44F3-B370-15D9429A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67B1B-50DE-4F82-B9BC-54CF1CB1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0746E-13EE-4AB7-8457-A52CE22F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1E783-96F0-4934-BE9C-2E46FFB4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F56FB-6E17-4496-904B-5D5479F4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0938C-E662-4D76-AC38-89303340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05131-F32F-470D-9538-B6BDAEC9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33C52-95DC-435E-B229-B7217225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5F2FA-F5CE-4D49-B512-4A73753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2B94E-C128-414B-BAED-A1227EF9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CC841-14D7-4AE2-AF9F-E72BB511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96F-5AA3-4159-B8E7-C7365C45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6303D-449F-4BD6-B086-B30AFB90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BCC7E-DF63-443D-894B-9BF65083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82B8C-9E17-438F-B88E-45DFDDC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4EC9C-8B5B-45BE-B55A-D32405D4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BFC92-C1C8-4602-A3AD-E2815CFC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37B2C-52FB-4808-B349-47986B9B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33F67-8D70-45A6-BF04-45EF57B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C022D-1F45-4A7D-ACE0-94547026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847C9-4DA7-416F-9D0C-E9EDB03F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0F5B4-251A-4930-909D-D5E49311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1BFF-A67A-4082-9E85-CEBEB87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0761B-CB56-4A37-B09B-DB7E1CF0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6921A-3AEA-4302-A5D8-1AC68711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0C8C8-727F-4344-80D5-3F3329E6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E41-6B31-4946-81B5-920504F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ECE0-6CB6-42E9-BD86-92C1BE3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7230-84B9-46DE-A8B9-3C90BB8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376-BAF8-45B8-BCB4-B48A6DBF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8E0-9AB0-42C7-9533-AB6A11BF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8F0F-EB8D-4111-B11E-BFE50894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E356-3305-4B5C-914E-0F3833F8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B4E5-8DEF-47DB-B1C6-8E5504F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6524-564E-4738-B037-D302944A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E59D-B281-4278-A1FE-4750B235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ED53-56BE-490A-8664-94A8230C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F72-9D8C-4590-84D8-17054D03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CFED-C40E-45C2-9DB9-4CEAD184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1EB1-C909-405D-A942-137B35E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88FF-F068-4CCF-9475-89CB411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35F7-526D-41F3-A3AD-3DF8809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2661-D70E-46D8-B08F-FDE18805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EDF6-A001-44A6-8101-CC8653FD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07E4-BDE9-4083-BF60-90A3AB42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745D2-358F-4722-B1F5-CB1DAE1D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4671-1A12-468E-96EF-88387A7B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7619-48CE-4BFD-BFAB-55DAAD5C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167-D605-4D8C-A09A-45B9F050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71C9-4C2B-42DF-8732-5CE6FBD0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D723-7962-440C-8F50-36F881A8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4BBE-E642-4DFD-B6B9-58595C00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4F67-2FEA-41FF-968F-D1C26AE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FCF85-3765-4217-9721-C70F1815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B8F9-2EF7-48AF-B819-8F677CB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2DB81-0335-4A3E-AB50-5C29BB76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B9C1-8101-4EAB-9FEE-AAE33AE7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7D46D-F2F8-42D2-B6FB-6FF56B19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A4D0-1B21-43A1-89AD-F6673944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202-0B96-4955-A470-959A0862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35FAA-7E3A-42B9-97EF-B64BD9F8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7F01D-DF20-440B-BB6A-A59D188A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BA945-1B77-49B5-A73E-EAED104E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754E-B2E0-48D8-BDFC-2586FD6B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302C-6D83-493D-96EB-BD5B1331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F562E-0821-48A8-85D1-B691561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4AED-1290-4E7B-AE09-C7FE150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22FB-89E5-459E-BE44-8411C5F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24FE-02DE-4F02-A328-CFFEB10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B82D-80F7-4CDD-B5CD-C142A9E2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DF5-E0DF-483E-AFFA-CA40C8B2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186EB-DA51-454B-B03D-20B6E7A6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FBCF8-858B-4009-B48A-30DA574D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AB57A-E6C2-42F5-9359-621B4489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F936-CDA6-4AE1-BCC5-ACE55CF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EAD97-16A1-493F-B8CB-A10FBC2F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2C960-E9A5-4DC5-88FF-7781196F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C8B5-90E8-4D44-AC45-25A283CC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0622-0165-4181-B128-119E2B56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2764C-CE1A-473A-A744-AB715FD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82C1A-2335-468B-95D0-83E8598F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A2C-328B-47F0-8512-CE503D9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73DEF-A78E-4A59-A672-2FF347EF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ACB8F-C438-4C34-97FF-325D8487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CD77-3FB6-4F7D-A71E-A5D8355C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3594-A583-49DA-BE45-304E11A1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5BDFD-1F2A-4923-B892-8DAD97CB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3BCCA-E159-4B01-B3D1-C740FF3A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597C-E87C-4FC5-9A42-B65CCE44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ADBE-5241-46AB-8622-191463B7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3A4BD-0055-4F7A-BC2C-AC80502E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49FD-6ED8-4640-AE3E-7000035F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231-6B9A-4062-AEC1-6D6AEB78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BBBB-1EF0-4C11-838E-91F10B8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C5411-DF9F-42F1-86B6-E47C16FC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B46F7-061F-4074-B34D-A2D135B5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BED74-F691-4D7D-A045-CB378825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228CF-1215-41A7-AEA5-9B6F0723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10FCE-E81E-4B98-A71F-F02DCD4B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76D05-C665-4A3C-907F-73422549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4FE8E-19D5-4D84-AF15-6038E5C0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BE72-492D-427F-A59A-CB0A110C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5FF2A-DF99-4EA4-B571-D2D806F4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BEC-7133-434C-A1E1-B7507B1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FC6EB-8787-47A4-B9FD-78FEEFB5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B981E-C7D7-4C82-9947-3BD62C5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7E4AD-D553-4658-96D6-BD258C2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8705D-A9EC-4004-9727-A291AAF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AB1B2-BE97-4341-91BA-F978AA0C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D5938-ACF5-4E09-BF49-7C2FD75F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67D33-F509-450D-B73C-30F788C7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6B394-8FEF-45A2-BC96-79D93011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27A42-9F15-4631-B247-D9F14AE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07613-D698-4B74-A64B-832F9AAA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7350-9894-49E2-8707-048AA56114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FC9E-E84B-4777-A449-E8FE62150A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9DBB-9C3C-449B-8565-877FA35E42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B4FF-58FC-4B65-848A-99D3AF17CA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0B44-528A-4E95-B3D1-10E7741EF8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7569-F367-4BA8-875A-93482FF6C7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47CF-4E67-44EB-BF7F-70BCB5D1D2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8DF9-8728-43C1-B8A4-18A271164C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C6E3-FE93-430E-A9AA-15D4E363BA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1BA1-6D6C-44EA-A48E-2A1008CB03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C01F-FA08-4889-980B-533DE12CF4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792E-6FD6-474C-B4CC-2A49C7CEA7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7A8-8C84-46D7-9561-FAA8F80FD0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2FE1-6199-4611-A43D-FC92A23216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3317-4A00-4A65-B22D-D23E565049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48E1-4A70-455F-98C3-2A69F0FA2F9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bject 18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object 20"/>
          <p:cNvSpPr/>
          <p:nvPr/>
        </p:nvSpPr>
        <p:spPr>
          <a:xfrm>
            <a:off x="2465280" y="936720"/>
            <a:ext cx="4321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bject 54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bject 63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bject 66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object 68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object 69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bject 73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bject 76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bject 84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bject 86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bject 88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bject 94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bject 98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bject 99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bject 120"/>
          <p:cNvSpPr/>
          <p:nvPr/>
        </p:nvSpPr>
        <p:spPr>
          <a:xfrm>
            <a:off x="488880" y="2676600"/>
            <a:ext cx="2448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object 124"/>
          <p:cNvSpPr/>
          <p:nvPr/>
        </p:nvSpPr>
        <p:spPr>
          <a:xfrm>
            <a:off x="488880" y="2828880"/>
            <a:ext cx="689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bject 134"/>
          <p:cNvSpPr/>
          <p:nvPr/>
        </p:nvSpPr>
        <p:spPr>
          <a:xfrm>
            <a:off x="561960" y="2981160"/>
            <a:ext cx="2367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object 149"/>
          <p:cNvSpPr/>
          <p:nvPr/>
        </p:nvSpPr>
        <p:spPr>
          <a:xfrm>
            <a:off x="520560" y="3438360"/>
            <a:ext cx="100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bject 158"/>
          <p:cNvSpPr/>
          <p:nvPr/>
        </p:nvSpPr>
        <p:spPr>
          <a:xfrm>
            <a:off x="614520" y="3591000"/>
            <a:ext cx="1641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object 169"/>
          <p:cNvSpPr/>
          <p:nvPr/>
        </p:nvSpPr>
        <p:spPr>
          <a:xfrm>
            <a:off x="1754280" y="3743280"/>
            <a:ext cx="13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bject 177"/>
          <p:cNvSpPr/>
          <p:nvPr/>
        </p:nvSpPr>
        <p:spPr>
          <a:xfrm>
            <a:off x="561960" y="3895560"/>
            <a:ext cx="326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object 179"/>
          <p:cNvSpPr/>
          <p:nvPr/>
        </p:nvSpPr>
        <p:spPr>
          <a:xfrm>
            <a:off x="561960" y="4048200"/>
            <a:ext cx="488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bject 182"/>
          <p:cNvSpPr/>
          <p:nvPr/>
        </p:nvSpPr>
        <p:spPr>
          <a:xfrm>
            <a:off x="814320" y="4200480"/>
            <a:ext cx="221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object 187"/>
          <p:cNvSpPr/>
          <p:nvPr/>
        </p:nvSpPr>
        <p:spPr>
          <a:xfrm>
            <a:off x="804960" y="4352760"/>
            <a:ext cx="220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object 196"/>
          <p:cNvSpPr/>
          <p:nvPr/>
        </p:nvSpPr>
        <p:spPr>
          <a:xfrm>
            <a:off x="561960" y="4657680"/>
            <a:ext cx="207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bject 201"/>
          <p:cNvSpPr/>
          <p:nvPr/>
        </p:nvSpPr>
        <p:spPr>
          <a:xfrm>
            <a:off x="762120" y="4809960"/>
            <a:ext cx="22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bject 206"/>
          <p:cNvSpPr/>
          <p:nvPr/>
        </p:nvSpPr>
        <p:spPr>
          <a:xfrm>
            <a:off x="1246320" y="4962600"/>
            <a:ext cx="1865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bject 212"/>
          <p:cNvSpPr/>
          <p:nvPr/>
        </p:nvSpPr>
        <p:spPr>
          <a:xfrm>
            <a:off x="561960" y="5114880"/>
            <a:ext cx="3241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bject 221"/>
          <p:cNvSpPr/>
          <p:nvPr/>
        </p:nvSpPr>
        <p:spPr>
          <a:xfrm>
            <a:off x="561960" y="5572080"/>
            <a:ext cx="1941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bject 226"/>
          <p:cNvSpPr/>
          <p:nvPr/>
        </p:nvSpPr>
        <p:spPr>
          <a:xfrm>
            <a:off x="762120" y="5724360"/>
            <a:ext cx="12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object 230"/>
          <p:cNvSpPr/>
          <p:nvPr/>
        </p:nvSpPr>
        <p:spPr>
          <a:xfrm>
            <a:off x="561960" y="5877000"/>
            <a:ext cx="1263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object 234"/>
          <p:cNvSpPr/>
          <p:nvPr/>
        </p:nvSpPr>
        <p:spPr>
          <a:xfrm>
            <a:off x="561960" y="6029280"/>
            <a:ext cx="2381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bject 240"/>
          <p:cNvSpPr/>
          <p:nvPr/>
        </p:nvSpPr>
        <p:spPr>
          <a:xfrm>
            <a:off x="561960" y="6181560"/>
            <a:ext cx="178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bject 243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object 20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5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object 52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object 61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object 64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object 66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object 67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bject 71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object 74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bject 82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object 84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object 86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bject 92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object 96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object 97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object 115"/>
          <p:cNvSpPr/>
          <p:nvPr/>
        </p:nvSpPr>
        <p:spPr>
          <a:xfrm>
            <a:off x="561960" y="2676600"/>
            <a:ext cx="1081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object 121"/>
          <p:cNvSpPr/>
          <p:nvPr/>
        </p:nvSpPr>
        <p:spPr>
          <a:xfrm>
            <a:off x="750960" y="2828880"/>
            <a:ext cx="1966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bject 135"/>
          <p:cNvSpPr/>
          <p:nvPr/>
        </p:nvSpPr>
        <p:spPr>
          <a:xfrm>
            <a:off x="717480" y="3133800"/>
            <a:ext cx="1514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object 146"/>
          <p:cNvSpPr/>
          <p:nvPr/>
        </p:nvSpPr>
        <p:spPr>
          <a:xfrm>
            <a:off x="1131840" y="3286080"/>
            <a:ext cx="1854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object 154"/>
          <p:cNvSpPr/>
          <p:nvPr/>
        </p:nvSpPr>
        <p:spPr>
          <a:xfrm>
            <a:off x="561960" y="3438360"/>
            <a:ext cx="577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object 162"/>
          <p:cNvSpPr/>
          <p:nvPr/>
        </p:nvSpPr>
        <p:spPr>
          <a:xfrm>
            <a:off x="561960" y="3591000"/>
            <a:ext cx="316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object 164"/>
          <p:cNvSpPr/>
          <p:nvPr/>
        </p:nvSpPr>
        <p:spPr>
          <a:xfrm>
            <a:off x="561960" y="3743280"/>
            <a:ext cx="2909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object 166"/>
          <p:cNvSpPr/>
          <p:nvPr/>
        </p:nvSpPr>
        <p:spPr>
          <a:xfrm>
            <a:off x="561960" y="3895560"/>
            <a:ext cx="641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object 170"/>
          <p:cNvSpPr/>
          <p:nvPr/>
        </p:nvSpPr>
        <p:spPr>
          <a:xfrm>
            <a:off x="561960" y="4048200"/>
            <a:ext cx="1816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object 176"/>
          <p:cNvSpPr/>
          <p:nvPr/>
        </p:nvSpPr>
        <p:spPr>
          <a:xfrm>
            <a:off x="561960" y="4200480"/>
            <a:ext cx="2016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object 180"/>
          <p:cNvSpPr/>
          <p:nvPr/>
        </p:nvSpPr>
        <p:spPr>
          <a:xfrm>
            <a:off x="561960" y="4352760"/>
            <a:ext cx="1730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object 188"/>
          <p:cNvSpPr/>
          <p:nvPr/>
        </p:nvSpPr>
        <p:spPr>
          <a:xfrm>
            <a:off x="561960" y="4505400"/>
            <a:ext cx="19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object 192"/>
          <p:cNvSpPr/>
          <p:nvPr/>
        </p:nvSpPr>
        <p:spPr>
          <a:xfrm>
            <a:off x="561960" y="4657680"/>
            <a:ext cx="1200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bject 197"/>
          <p:cNvSpPr/>
          <p:nvPr/>
        </p:nvSpPr>
        <p:spPr>
          <a:xfrm>
            <a:off x="552600" y="4809960"/>
            <a:ext cx="28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object 199"/>
          <p:cNvSpPr/>
          <p:nvPr/>
        </p:nvSpPr>
        <p:spPr>
          <a:xfrm>
            <a:off x="741240" y="4962600"/>
            <a:ext cx="182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bject 204"/>
          <p:cNvSpPr/>
          <p:nvPr/>
        </p:nvSpPr>
        <p:spPr>
          <a:xfrm>
            <a:off x="743040" y="5114880"/>
            <a:ext cx="2284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object 214"/>
          <p:cNvSpPr/>
          <p:nvPr/>
        </p:nvSpPr>
        <p:spPr>
          <a:xfrm>
            <a:off x="743040" y="5267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object 217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+ 7 914 – 462 – 14 - 99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r.mmv008@yandex.ru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1116000" y="1052640"/>
            <a:ext cx="802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1:27:00Z</dcterms:created>
  <dc:creator>User</dc:creator>
  <dc:description/>
  <dc:language>en-US</dc:language>
  <cp:lastModifiedBy>Елена Александровна Бронникова</cp:lastModifiedBy>
  <dcterms:modified xsi:type="dcterms:W3CDTF">2019-12-20T01:10:33Z</dcterms:modified>
  <cp:revision>221</cp:revision>
  <dc:subject/>
  <dc:title>КОЛИЧЕСТВЕННЫЕ ПОКАЗАТЕЛИ РАБОТЫ</dc:title>
</cp:coreProperties>
</file>