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DC6-E66C-4D47-B59E-2AFDE5AF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00B-D98D-45B2-8F1F-6E0F30A5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E7E-4180-4FAA-BE95-05242426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195-ABF2-4A8A-9C98-93863180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4D01-6B06-4F30-9B2D-E233C00D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0ABD-4D47-4B6B-9654-715A33B7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E3A1-AEA0-4E84-8DD4-892A5EF4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FEF7-EC29-451D-B8D3-3221B889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6D21-52AD-40A2-88A8-E44552ED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0FBE-48A3-4328-9B70-2660E58B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D65D-250A-452D-A6F8-10F12705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CB0-FE4F-41FA-9605-47687735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2801-3D4E-4B73-AF35-DF167677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D617-C624-4278-A621-D452A167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2FBE-DDE1-4CBA-A1DF-260043C6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3727-AAAD-4B80-A2CD-35ADF8B4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FDDA-C50E-41C9-A98A-0D658ECF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43D-AF74-4265-B9C5-5E853F39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83F-466A-4BAA-B02B-F00BAA61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2C1-ECD6-4825-BF11-CDB8ADA7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09F-97FD-4A61-A18B-2B28A7C9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4FE-64F0-4386-8AC7-C0C3CDE8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2AC-4424-4564-B519-6624E117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F1B-6EAA-4BDA-A23C-6CA7951F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C6B4-FA3D-4E4B-9605-F98AE991DC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5BC5-07EB-4511-A514-6F8DC7C818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рядок представления годового отчета за2019г. в ГБУЗ «ЗККФПЦ»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Формирование и контроль корректности отчетов федерального статистического наблю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Заместитель главного врача по организационно-методической работе Татьяна Николаевна Кнести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Тел: 41-60-09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8-914-498-945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e-mail: optd_chita@mail.r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0572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5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.8(о заболеваниях активным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уберкулезом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21428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0160" y="257040"/>
            <a:ext cx="87436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71440" y="466560"/>
            <a:ext cx="86011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 по противотуберкулезной работе среди населения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гистрация новых случаев заболевания туберкулезом за 2019г.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 20.12.2019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 25.12.2019г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– окончательно сверить (можно по телефону) заболеваемость, в том числе – выявленных при аутопсии, бактериовыделителей (по методу обнаружения), временно проживающих на территории, БОМЖ, число умерших от туберкул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Типичные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1428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молекулярно-генетических  методов при составлении отчёта по формам 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икак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ющая система мониторинга не рассчитана на учёт результатов молекулярно-генетических методов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посев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использованием автоматических бактериологических анализаторов (бактеков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 составлении отчёта по форма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результаты обычного пос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При сдаче отчета предоставить следующие отчетные фор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8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3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а 2513 формы № 30 – строка 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казать суммарно всех жителей территории обслуживания, обследованных в текущем году лучевым метод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в любой медицинской организации, независимо от ведомственной принадлежност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ы по противотуберкулезной работе среди детей и подростк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заполнить все таблицы по всем графам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 том числ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иммунодиагностике туберкулеза (туберкулиновая проба, Диаскинтест) отразить числ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лиц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следованных данным методом, а не число выполненных исследований; данные должны совпадать с таблице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513 ф. № 30 и таблицей 2200 ф. № 3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вакцинации БЦЖ новорожденных предоставить сводные данные обо всех новорожденных детях района, в том числе рожденных в других Л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о ЗАГСу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 к годовому отчету по противотуберкулезной работе за подписью главного врача ЦРБ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 анализ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казателей в динамике за 3 года в сравнении с краем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оверные пофамильные списки с указанием даты рождения, адреса, даты взятия на учет, диагноза, раздельно с наличием бактериовыделения и без н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контингентов, состоящих на учете п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руппам ДУ (раздельн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ереведенных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ДУ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мерших от туберкулеза в отчетном году по данным ЦСУ, в том числ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елением на городских и сельских ж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 туберкулезом, умерших от других причи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актериовыделителей с МЛУ и их дви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оперированных по поводу туберкулеза различной  лок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 ГБУЗ «ЗККФПЦ », ННИИТ, ККБ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прибывших из ФСИН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нятых с диспансерного учета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лиц с ВИЧ/ТБ, раздельно впервые выявленные и континген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твержденную численность населения  района (всего, дети, подрост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чет за 2019г. по профилактическим осмотрам населения, в бумажном варианте и 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ронном (Еxce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ии форм диспансерного наблюдения больных туберкулезом ф – 30/04 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тчетные данные, отраженные в нескольких отчетных формах, должны во всех формах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ОВПАДА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т.ч.: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мунодиагностика (проба Манту 2те, ДС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евое обследование (флюорография, РГР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ингенты всех групп «Д» учета,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еред сдачей годового отчета будет проводиться контроль ведения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Федерального регистра, лиц больных тубекулезом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ри наличии расхождений отчет 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принят не буде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503280" y="115920"/>
            <a:ext cx="8640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Правила заполнения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форм № 8 и №33 и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типичные ошибк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Елена Александровна Бронникова</cp:lastModifiedBy>
  <dcterms:modified xsi:type="dcterms:W3CDTF">2019-12-20T00:53:54Z</dcterms:modified>
  <cp:revision>90</cp:revision>
  <dc:subject/>
  <dc:title>Недочеты при составлении форм ФСН №№ 30,47,12. Сопоставление данных из разных форм с формами №№ 8 и 33</dc:title>
</cp:coreProperties>
</file>