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719-0EF9-49ED-A317-60DA10B6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E28-4D1D-4DAE-AAD4-D1EC6880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AC2-9D86-4312-B8BE-51B08400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A7A-30A9-4862-A463-2478B8B4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CB3-9171-4509-8DEE-C1562C4F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DE5-DAD9-4A13-B77A-FCF556E4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5D6-55E2-454C-9912-73A6C12A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DE5-19FE-4FB6-BACC-0DBA137C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0A9-190F-416A-A571-4034EFF5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CA0-AF51-4345-8E4E-873094BA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168-43D3-4AB5-91A7-538BF6D5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7E6-BEA3-4AD1-A18A-DD59AE74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E2D7-59C9-4694-9820-380D82740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469080"/>
            <a:ext cx="79218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единица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431496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них: изготавливающие лекарственные препара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ьного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-диагностические кабине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7497"/>
          <p:cNvSpPr/>
          <p:nvPr/>
        </p:nvSpPr>
        <p:spPr>
          <a:xfrm>
            <a:off x="-734760" y="-1795680"/>
            <a:ext cx="106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100)    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Коды по ОКЕИ: человек – 792;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371"/>
          <p:cNvSpPr/>
          <p:nvPr/>
        </p:nvSpPr>
        <p:spPr>
          <a:xfrm>
            <a:off x="516240" y="904320"/>
            <a:ext cx="8193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ы по ОКЕИ: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539640" y="474480"/>
            <a:ext cx="842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ды по ОКЕИ: человек – 792; единица – 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71400" y="690840"/>
            <a:ext cx="831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Код по ОКЕИ: человек – 7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484280"/>
          <a:ext cx="8280360" cy="515772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ОКЕИ: человек – 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согласно отправленной формы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вместе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 протоколам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тологоанатомических вскрытий в районе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ончарова Марина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ач-статистик Хамина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dcterms:modified xsi:type="dcterms:W3CDTF">2019-12-19T02:09:59Z</dcterms:modified>
  <cp:revision>47</cp:revision>
  <dc:subject/>
  <dc:title>Слайд 1</dc:title>
</cp:coreProperties>
</file>