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897-72D6-44D3-B7A6-F0A3A7AC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1CA-1F50-4A5E-9D2D-8A23535D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1BE-401F-403E-8467-AC1F0D5D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99E-09F7-4DFB-84C9-3CC8C8A1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6E9-CEAD-4256-91C9-ACCF3EE4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5C6-B3DB-4D0B-9913-7D909495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1C3-B06B-4E46-BD70-B548145A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E79-3E83-458D-A17D-A870205C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6F9-F102-4501-BD49-DA1A05B4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42B-F868-4A21-8F89-DF9BD128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AD4-65A2-4344-B04C-BE41F960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4A8-B4FE-4E96-86C0-ACAA7C62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393E-FD01-4F8A-AEE7-BAD4BD6C51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чет по функциональной диагност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 30 – таблицы 5401, 5402, 54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ЭКГ дистанционно – строка 3 таблицы 5402 и строка 51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хоКГ, УЗ исследование сосудов, ЭхоЭГ – в отчет по ультразвуковой диагностике (т. 51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яснительная запис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Штат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если совместители – внешние или внутренние. Внутренние – основная специа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ппаратур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название – фирма производитель – год выпуска – тех. Состоя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taly.barkan@yandex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18:43:47Z</dcterms:created>
  <dc:creator>пк</dc:creator>
  <dc:description/>
  <dc:language>en-US</dc:language>
  <cp:lastModifiedBy>пк</cp:lastModifiedBy>
  <dcterms:modified xsi:type="dcterms:W3CDTF">2024-12-11T19:50:43Z</dcterms:modified>
  <cp:revision>2</cp:revision>
  <dc:subject/>
  <dc:title>Отчет по функциональной диагностике</dc:title>
</cp:coreProperties>
</file>