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4984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931680" y="741240"/>
            <a:ext cx="4933800" cy="370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4984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D079F-2D8F-4BAE-BF1F-65B8E7CE8870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Номер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546F8-BD42-466D-AD8F-57F399257AA5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9897A-6652-4BD5-9BE9-155D0D6FA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6937B-650B-49A5-AB13-331D81F91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594BD-22A7-4E0B-B4C1-B982FF344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92448-A7B6-45AD-A5C1-BC9F86314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ADBF8-0968-4A5D-BFEE-ACBD34053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B703F-52FB-45AC-98E5-A2659BB43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17610-1438-4C32-B74A-36705C4AF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58A19-7FFE-490E-9C4F-987564606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43C9E-F950-43CA-BF81-27EEBF804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0BBB3-8FB8-41D3-A17E-7C7D64D2B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A9686-085C-469D-AF4C-13C47137B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FD5BE-5578-4190-9A90-13F624A56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AD3EB-B5A8-4A11-898D-DC6EB3EF2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984EB-A4FD-49FB-8769-B2A0FBDFD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CFB85-53E9-44C4-B12F-491B773A2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665D0-6749-4F9B-B8DA-332C68C1C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2FDC2-39E7-4BB5-B52B-313EDE285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48ACF7-FA6C-4B26-BC89-784B93F60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7F29DB-03D6-4E55-B488-4AEE9FAE8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B071A0-1429-4580-9830-ECC12A62A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5769FF-A059-47F1-A8AC-FD1724FC7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949231-24C3-4FA5-B0A3-94ED8AC65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B9138-4774-4E3B-BABF-2B8817AB0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28363A-CC06-4402-925C-8A55F3E09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840992-C6D7-4C6A-91BB-858088925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6AEB03-A32F-4ECF-B6C5-1D73CB4B9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1EC41B-B86E-4037-9ABE-A65A7747E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45FAAB-6B7E-48FB-BFF8-0CCF25515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1E2944-3F40-4F84-964A-F5B78DC58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B5C6E6-DCD0-4FD5-8F1A-2ACFDAE77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BD1CD1-B835-4A39-BC23-DD98B2635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0BDF40-AB99-4F12-810B-C21D165FB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7471B2-F4E7-49B9-AD4E-5C7048B06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7DF66-4032-46DD-A182-7B7ACD1AB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86F7B8-F42A-4D2D-B58C-0DAADA33A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CD97E1-C02C-4638-939E-ACAA9FACF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419FFC-6123-48A6-A62A-F9688FEC8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881271-7FD4-41F1-AD35-164B0BEED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B03D36-8DB8-4CED-8844-E100CD78E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0872EA-B678-428F-8AE3-CD8BE6461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E29B81-A117-48BE-A2DC-84282F8D3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D58CFE-F2EB-4B3B-B350-D48E88AB4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EC1CB9-C2E3-49D0-97F2-1ACFD8513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AAC36-21D1-41B3-B65B-C7717C12A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D1058-4FF4-454B-A810-0BB04FB66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21221-08E4-43B9-90BE-FE819FE58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FA440-B7E6-4B9B-A1EF-B54A56369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6B8E8-36F3-4B1A-851C-DBBF1813E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AB6A3-DF79-40FE-9C92-98B6BA2A95E9}" type="slidenum">
              <a:rPr b="0" lang="ru-RU" sz="1200" spc="-1" strike="noStrike">
                <a:solidFill>
                  <a:srgbClr val="045c75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3DCA6-E662-4B70-9D52-33ADCE20AE72}" type="slidenum">
              <a:rPr b="0" lang="ru-RU" sz="1200" spc="-1" strike="noStrike">
                <a:solidFill>
                  <a:srgbClr val="d1eaee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76888-AB45-41F9-8A2F-0D7090BC681D}" type="slidenum">
              <a:rPr b="0" lang="ru-RU" sz="1200" spc="-1" strike="noStrike">
                <a:solidFill>
                  <a:srgbClr val="d1eaee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8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1" name="Right Triangle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2" name="Freeform 9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3" name="Freeform 10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2CEDF-7356-474D-9AEB-29C1FEE865D5}" type="slidenum">
              <a:rPr b="0" lang="ru-RU" sz="1200" spc="-1" strike="noStrike">
                <a:solidFill>
                  <a:srgbClr val="045c75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Box 5"/>
          <p:cNvSpPr/>
          <p:nvPr/>
        </p:nvSpPr>
        <p:spPr>
          <a:xfrm>
            <a:off x="2438280" y="1066680"/>
            <a:ext cx="4368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ФОРМА № 55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3" name="TextBox 5"/>
          <p:cNvSpPr/>
          <p:nvPr/>
        </p:nvSpPr>
        <p:spPr>
          <a:xfrm>
            <a:off x="762120" y="2057400"/>
            <a:ext cx="761976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aramond"/>
              </a:rPr>
              <a:t>СВЕДЕНИЯ  О ДЕЯТЕЛЬНОСТИ   СЛУЖБЫ МЕДИЦИНЫ  КАТАСТРОФ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aramond"/>
              </a:rPr>
              <a:t>СУБЪЕКТА  РОССИЙСКОЙ ФЕДЕРАЦИИ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aramond"/>
              </a:rPr>
              <a:t>за  2020  год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20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" nodeType="afterEffect" fill="hold" presetClass="emph" presetID="16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9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44,6,21)"/>
                                      </p:to>
                                    </p:set>
                                    <p:set>
                                      <p:cBhvr>
                                        <p:cTn id="10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44,6,21)"/>
                                      </p:to>
                                    </p:set>
                                    <p:set>
                                      <p:cBhvr>
                                        <p:cTn id="11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Прямоугольник 1"/>
          <p:cNvSpPr/>
          <p:nvPr/>
        </p:nvSpPr>
        <p:spPr>
          <a:xfrm>
            <a:off x="228600" y="138240"/>
            <a:ext cx="868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ние коечного фонда медицинских организаций в чрезвычайных ситуациях (ЧС) 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4" name="Прямоугольник 2"/>
          <p:cNvSpPr/>
          <p:nvPr/>
        </p:nvSpPr>
        <p:spPr>
          <a:xfrm>
            <a:off x="232200" y="474840"/>
            <a:ext cx="6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00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55" name="Таблица 4" descr=""/>
          <p:cNvPicPr/>
          <p:nvPr/>
        </p:nvPicPr>
        <p:blipFill>
          <a:blip r:embed="rId1"/>
          <a:stretch/>
        </p:blipFill>
        <p:spPr>
          <a:xfrm>
            <a:off x="225360" y="781200"/>
            <a:ext cx="8680680" cy="4529160"/>
          </a:xfrm>
          <a:prstGeom prst="rect">
            <a:avLst/>
          </a:prstGeom>
          <a:ln w="0">
            <a:noFill/>
          </a:ln>
        </p:spPr>
      </p:pic>
      <p:sp>
        <p:nvSpPr>
          <p:cNvPr id="256" name="Прямоугольник 5"/>
          <p:cNvSpPr/>
          <p:nvPr/>
        </p:nvSpPr>
        <p:spPr>
          <a:xfrm>
            <a:off x="228600" y="525780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упивших пораженных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таблица 5000 стр.  1  графа  4 / 5 )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число госпитализированных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таблица 4000  стр.  1  графа  28 / 29 )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7" name="Прямоугольник 6"/>
          <p:cNvSpPr/>
          <p:nvPr/>
        </p:nvSpPr>
        <p:spPr>
          <a:xfrm>
            <a:off x="290520" y="601992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умерших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таблица 5000  стр.  1  графа  8 / 9 )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число погибших (умерших) в медицинской организации  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таблица 4000  стр.  1  графа  34 / 35 )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8" name="Прямоугольник 6"/>
          <p:cNvSpPr/>
          <p:nvPr/>
        </p:nvSpPr>
        <p:spPr>
          <a:xfrm>
            <a:off x="2514600" y="2416320"/>
            <a:ext cx="6400800" cy="17704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аблица 5 000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1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=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2 + 3 + 4 … + 17 (графа 10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1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≤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2 + 3 + 4 … + 17 (графа с 4 по 9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рафа 4/5 = графа 6/7 + 8/9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nodeType="clickEffect" fill="hold">
                      <p:stCondLst>
                        <p:cond delay="0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9" dur="125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321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327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1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2" dur="1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334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1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7" dur="1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nodeType="afterEffect" fill="hold">
                            <p:stCondLst>
                              <p:cond delay="5250"/>
                            </p:stCondLst>
                            <p:childTnLst>
                              <p:par>
                                <p:cTn id="34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nodeType="afterEffect" fill="hold">
                            <p:stCondLst>
                              <p:cond delay="6250"/>
                            </p:stCondLst>
                            <p:childTnLst>
                              <p:par>
                                <p:cTn id="34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TextBox 1"/>
          <p:cNvSpPr/>
          <p:nvPr/>
        </p:nvSpPr>
        <p:spPr>
          <a:xfrm>
            <a:off x="857160" y="860400"/>
            <a:ext cx="7905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асчет среднегодовых коек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55 форма, табл. 5 000 гр. 3)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260" name=""/>
          <p:cNvGraphicFramePr/>
          <p:nvPr/>
        </p:nvGraphicFramePr>
        <p:xfrm>
          <a:off x="147600" y="3505320"/>
          <a:ext cx="8637480" cy="669960"/>
        </p:xfrm>
        <a:graphic>
          <a:graphicData uri="http://schemas.openxmlformats.org/drawingml/2006/table">
            <a:tbl>
              <a:tblPr/>
              <a:tblGrid>
                <a:gridCol w="4464000"/>
                <a:gridCol w="360360"/>
                <a:gridCol w="647640"/>
                <a:gridCol w="505080"/>
                <a:gridCol w="1008000"/>
                <a:gridCol w="287280"/>
                <a:gridCol w="1365120"/>
              </a:tblGrid>
              <a:tr h="335520">
                <a:tc>
                  <a:txBody>
                    <a:bodyPr lIns="43920" rIns="4392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8 коек х 3 дня  + 10 коек х 2 дня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 rowSpan="2"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=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920" rIns="439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 rowSpan="2"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=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,42 к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=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,4 койки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2920">
                <a:tc>
                  <a:txBody>
                    <a:bodyPr lIns="43920" rIns="439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                      </a:t>
                      </a: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1 день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3920" marR="43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3920" marR="43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61" name=""/>
          <p:cNvGraphicFramePr/>
          <p:nvPr/>
        </p:nvGraphicFramePr>
        <p:xfrm>
          <a:off x="395280" y="5334120"/>
          <a:ext cx="7993080" cy="1008000"/>
        </p:xfrm>
        <a:graphic>
          <a:graphicData uri="http://schemas.openxmlformats.org/drawingml/2006/table">
            <a:tbl>
              <a:tblPr/>
              <a:tblGrid>
                <a:gridCol w="2851200"/>
                <a:gridCol w="460440"/>
                <a:gridCol w="593640"/>
                <a:gridCol w="388800"/>
                <a:gridCol w="1825920"/>
                <a:gridCol w="255240"/>
                <a:gridCol w="1617840"/>
              </a:tblGrid>
              <a:tr h="505080">
                <a:tc>
                  <a:txBody>
                    <a:bodyPr lIns="53280" rIns="53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,4  + 1,5  + 0,5 + 2,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53280" marR="53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 rowSpan="2">
                  <a:txBody>
                    <a:bodyPr lIns="53280" rIns="5328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=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3280" marR="53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3280" rIns="53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,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53280" marR="53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 rowSpan="2">
                  <a:txBody>
                    <a:bodyPr lIns="53280" rIns="5328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=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3280" marR="53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53280" rIns="53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,48 койки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3280" marR="53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53280" rIns="53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=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3280" marR="53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53280" rIns="53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,5 койки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3280" marR="53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2920">
                <a:tc>
                  <a:txBody>
                    <a:bodyPr lIns="53280" rIns="53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               </a:t>
                      </a: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3280" marR="53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3280" rIns="53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3280" marR="53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62" name="Rectangle 1"/>
          <p:cNvSpPr/>
          <p:nvPr/>
        </p:nvSpPr>
        <p:spPr>
          <a:xfrm>
            <a:off x="395280" y="1827360"/>
            <a:ext cx="8143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 </a:t>
            </a: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Расчет среднемесячных коек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январе было развернуто: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января – 8 коек             8 января – 10 коек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января – 8 коек             9 января – 10 коек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января – 8 коек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3" name="TextBox 5"/>
          <p:cNvSpPr/>
          <p:nvPr/>
        </p:nvSpPr>
        <p:spPr>
          <a:xfrm>
            <a:off x="395280" y="4267080"/>
            <a:ext cx="8501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 </a:t>
            </a: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Расчет среднегодовых коек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январе – 1,4 койки, в марте – 1,5 койки, в сентябре - 0,5 койки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декабре – 2,4 койки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nodeType="clickEffect" fill="hold">
                      <p:stCondLst>
                        <p:cond delay="0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after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1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1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60" nodeType="after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1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1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6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82" nodeType="after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1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1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38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9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9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Прямоугольник 2"/>
          <p:cNvSpPr/>
          <p:nvPr/>
        </p:nvSpPr>
        <p:spPr>
          <a:xfrm>
            <a:off x="1160640" y="1295280"/>
            <a:ext cx="6992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работе учебного центра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5" name="Прямоугольник 1"/>
          <p:cNvSpPr/>
          <p:nvPr/>
        </p:nvSpPr>
        <p:spPr>
          <a:xfrm>
            <a:off x="460800" y="2133720"/>
            <a:ext cx="6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 00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266" name=""/>
          <p:cNvGraphicFramePr/>
          <p:nvPr/>
        </p:nvGraphicFramePr>
        <p:xfrm>
          <a:off x="419040" y="2743200"/>
          <a:ext cx="8553600" cy="1279440"/>
        </p:xfrm>
        <a:graphic>
          <a:graphicData uri="http://schemas.openxmlformats.org/drawingml/2006/table">
            <a:tbl>
              <a:tblPr/>
              <a:tblGrid>
                <a:gridCol w="735120"/>
                <a:gridCol w="1031760"/>
                <a:gridCol w="735120"/>
                <a:gridCol w="641160"/>
                <a:gridCol w="685800"/>
                <a:gridCol w="685800"/>
                <a:gridCol w="762120"/>
                <a:gridCol w="1027080"/>
                <a:gridCol w="752400"/>
                <a:gridCol w="1497240"/>
              </a:tblGrid>
              <a:tr h="213480">
                <a:tc gridSpan="2" rowSpan="2"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оведено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чебных цикл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7"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бучено приемам оказания первой помощ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Число задействованных преподавател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отрудников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едработник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одител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оч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9720"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 т.ч. выездн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Ч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В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М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очи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3480"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7" name="Прямоугольник 4"/>
          <p:cNvSpPr/>
          <p:nvPr/>
        </p:nvSpPr>
        <p:spPr>
          <a:xfrm>
            <a:off x="476280" y="4952880"/>
            <a:ext cx="8153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таблица  6 000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	</a:t>
            </a: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графа 3</a:t>
            </a:r>
            <a:r>
              <a:rPr b="1" lang="ru-RU" sz="2000" spc="-1" strike="noStrike">
                <a:solidFill>
                  <a:srgbClr val="ff0000"/>
                </a:solidFill>
                <a:latin typeface="Garamond"/>
              </a:rPr>
              <a:t>  = </a:t>
            </a: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графа  4 + 5 + 6 + 7 + 8  + 9 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nodeType="clickEffect" fill="hold">
                      <p:stCondLst>
                        <p:cond delay="0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9" dur="125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411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417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1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2" dur="1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424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1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Прямоугольник 1"/>
          <p:cNvSpPr/>
          <p:nvPr/>
        </p:nvSpPr>
        <p:spPr>
          <a:xfrm>
            <a:off x="290880" y="816120"/>
            <a:ext cx="6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 00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9" name="Прямоугольник 2"/>
          <p:cNvSpPr/>
          <p:nvPr/>
        </p:nvSpPr>
        <p:spPr>
          <a:xfrm>
            <a:off x="152280" y="228600"/>
            <a:ext cx="8839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проведенных учениях, тренировках и занятиях в ТЦМК 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270" name=""/>
          <p:cNvGraphicFramePr/>
          <p:nvPr/>
        </p:nvGraphicFramePr>
        <p:xfrm>
          <a:off x="282600" y="1335240"/>
          <a:ext cx="8686800" cy="4449600"/>
        </p:xfrm>
        <a:graphic>
          <a:graphicData uri="http://schemas.openxmlformats.org/drawingml/2006/table">
            <a:tbl>
              <a:tblPr/>
              <a:tblGrid>
                <a:gridCol w="3733920"/>
                <a:gridCol w="685800"/>
                <a:gridCol w="685800"/>
                <a:gridCol w="1066680"/>
                <a:gridCol w="1219320"/>
                <a:gridCol w="1295280"/>
              </a:tblGrid>
              <a:tr h="243720">
                <a:tc rowSpan="2">
                  <a:txBody>
                    <a:bodyPr lIns="67680" rIns="67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чрезвычайной ситуации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ЧС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учений (тренировок, занятий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0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андно-штабные уч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бные трениров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актико-специальные уч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хногенные ЧС -  всего, из них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аварии пассажирских поездов и поездов метрополите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авиационные катастроф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аварии на автодорога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аварии водного транспор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пожары и взрыв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аварии с выбросом АХ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аварии с выбросом Р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аварии с выбросом ОБ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прочие техногенные Ч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родные Ч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рак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1" name="Прямоугольник 4"/>
          <p:cNvSpPr/>
          <p:nvPr/>
        </p:nvSpPr>
        <p:spPr>
          <a:xfrm>
            <a:off x="228600" y="5791320"/>
            <a:ext cx="8686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учений (тренировок, занятий) всего  =  число командно-штабных учений +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штабных тренировок +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тактико-специальных учений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2" name="Прямоугольник 6"/>
          <p:cNvSpPr/>
          <p:nvPr/>
        </p:nvSpPr>
        <p:spPr>
          <a:xfrm>
            <a:off x="4724280" y="2666880"/>
            <a:ext cx="4267440" cy="13132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аблица 6 000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1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=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2 + 3 + 4 … + 10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14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=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1 + 11 + 12 + 13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3" name="Прямоугольник 7"/>
          <p:cNvSpPr/>
          <p:nvPr/>
        </p:nvSpPr>
        <p:spPr>
          <a:xfrm>
            <a:off x="4724280" y="3990960"/>
            <a:ext cx="4267440" cy="55116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65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рафа 3 = графа 4 + 5 + 6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nodeType="clickEffect" fill="hold">
                      <p:stCondLst>
                        <p:cond delay="0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35" dur="125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437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1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443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1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8" dur="1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450" nodeType="afterEffect" fill="hold" presetClass="entr" presetID="42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1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3" dur="1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nodeType="afterEffect" fill="hold">
                            <p:stCondLst>
                              <p:cond delay="5750"/>
                            </p:stCondLst>
                            <p:childTnLst>
                              <p:par>
                                <p:cTn id="456" nodeType="afterEffect" fill="hold" presetClass="entr" presetID="42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8" dur="1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42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3" dur="1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4" dur="1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Прямоугольник 1"/>
          <p:cNvSpPr/>
          <p:nvPr/>
        </p:nvSpPr>
        <p:spPr>
          <a:xfrm>
            <a:off x="304920" y="38088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деятельности трассовых пунктов экстренной медицинской помощи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5" name="Прямоугольник 2"/>
          <p:cNvSpPr/>
          <p:nvPr/>
        </p:nvSpPr>
        <p:spPr>
          <a:xfrm>
            <a:off x="384480" y="1144440"/>
            <a:ext cx="6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 00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276" name=""/>
          <p:cNvGraphicFramePr/>
          <p:nvPr/>
        </p:nvGraphicFramePr>
        <p:xfrm>
          <a:off x="380880" y="1752480"/>
          <a:ext cx="8229600" cy="4389480"/>
        </p:xfrm>
        <a:graphic>
          <a:graphicData uri="http://schemas.openxmlformats.org/drawingml/2006/table">
            <a:tbl>
              <a:tblPr/>
              <a:tblGrid>
                <a:gridCol w="6705720"/>
                <a:gridCol w="762120"/>
                <a:gridCol w="761760"/>
              </a:tblGrid>
              <a:tr h="487080">
                <a:tc>
                  <a:txBody>
                    <a:bodyPr lIns="66600" rIns="66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ател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ссовые пункты 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трассовые пункты территориальных центров медицины катастро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зовов 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традавшие, которым оказана была медицинская помощь, 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етей 0-17 лет включительн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вакуировано всего, чел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етей 0-17 лет включительн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спитализировано всего, чел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етей 0-17 лет включительн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традавшие, которым оказана помощь авиамедицинской бригадой, 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етей 0-17 лет включительн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шие во время медицинской эвакуации 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етей 0-17 лет включительн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умерших во время санитарно-авиационной эвакуации 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етей 0-17 лет включительн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push dir="u"/>
  </p:transition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nodeType="clickEffect" fill="hold">
                      <p:stCondLst>
                        <p:cond delay="0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72" dur="125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474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8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480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1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5" dur="1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TextBox 5"/>
          <p:cNvSpPr/>
          <p:nvPr/>
        </p:nvSpPr>
        <p:spPr>
          <a:xfrm>
            <a:off x="2468520" y="762120"/>
            <a:ext cx="4114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ФОРМА № 56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8" name="TextBox 5"/>
          <p:cNvSpPr/>
          <p:nvPr/>
        </p:nvSpPr>
        <p:spPr>
          <a:xfrm>
            <a:off x="247680" y="1676520"/>
            <a:ext cx="83059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aramond"/>
              </a:rPr>
              <a:t>СВЕДЕНИЯ  О ДЕЯТЕЛЬНОСТИ  ОТДЕЛЕНИЯ  ЭКСТРЕННОЙ КОНСУЛЬТАТИВНОЙ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aramond"/>
              </a:rPr>
              <a:t>МЕДИЦИНСКОЙ  ПОМОЩИ И </a:t>
            </a:r>
            <a:r>
              <a:rPr b="1" lang="ru-RU" sz="4000" spc="-1" strike="noStrike">
                <a:solidFill>
                  <a:srgbClr val="000000"/>
                </a:solidFill>
                <a:latin typeface="Garamond"/>
              </a:rPr>
              <a:t>МЕДИЦИНСКОЙ ЭВАКУАЦИИ</a:t>
            </a:r>
            <a:r>
              <a:rPr b="1" lang="ru-RU" sz="40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aramond"/>
              </a:rPr>
              <a:t>за  2020  год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nodeType="clickEffect" fill="hold">
                      <p:stCondLst>
                        <p:cond delay="0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91" dur="2000" fill="hold"/>
                                        <p:tgtEl>
                                          <p:spTgt spid="27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93" nodeType="afterEffect" fill="hold" presetClass="emph" presetID="16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494" dur="2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495" dur="2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496" dur="2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Прямоугольник 1"/>
          <p:cNvSpPr/>
          <p:nvPr/>
        </p:nvSpPr>
        <p:spPr>
          <a:xfrm>
            <a:off x="609480" y="76320"/>
            <a:ext cx="807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б отделении экстренной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44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консультативной медицинской помощи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0" name="Прямоугольник 2"/>
          <p:cNvSpPr/>
          <p:nvPr/>
        </p:nvSpPr>
        <p:spPr>
          <a:xfrm>
            <a:off x="374040" y="758880"/>
            <a:ext cx="6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00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281" name=""/>
          <p:cNvGraphicFramePr/>
          <p:nvPr/>
        </p:nvGraphicFramePr>
        <p:xfrm>
          <a:off x="380880" y="1114560"/>
          <a:ext cx="8001000" cy="4543200"/>
        </p:xfrm>
        <a:graphic>
          <a:graphicData uri="http://schemas.openxmlformats.org/drawingml/2006/table">
            <a:tbl>
              <a:tblPr/>
              <a:tblGrid>
                <a:gridCol w="6416640"/>
                <a:gridCol w="677880"/>
                <a:gridCol w="906480"/>
              </a:tblGrid>
              <a:tr h="63972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br>
                        <a:rPr sz="1400"/>
                      </a:b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метка </a:t>
                      </a:r>
                      <a:br>
                        <a:rPr sz="1400"/>
                      </a:b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нет – 0,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 - 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делений 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на базе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нтра медицины катастро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нтра на базе областной, краевой, республиканской, окружной больниц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ластной, краевой, республиканской, окружной больницы                 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лиалов отделений 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на базе муниципальных образований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нтра медицины катастро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ластной, краевой, республиканской, окружной больницы                 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х медицинских организац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делений, оказывающие медицинскую помощь детям 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на базе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нтра медицины катастро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ластной, краевой, республиканской, окружной детской больницы                 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(из стр. 11)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анимационно-консультативный цент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ездные бригады перинатального цент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2" name="Прямоугольник 4"/>
          <p:cNvSpPr/>
          <p:nvPr/>
        </p:nvSpPr>
        <p:spPr>
          <a:xfrm>
            <a:off x="338040" y="5715000"/>
            <a:ext cx="3700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аблица 1000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1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=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2 + 3 + 4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5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=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6 + 7 + 8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3" name="Прямоугольник 5"/>
          <p:cNvSpPr/>
          <p:nvPr/>
        </p:nvSpPr>
        <p:spPr>
          <a:xfrm>
            <a:off x="4572000" y="5867280"/>
            <a:ext cx="297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 1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≥ 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9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 9 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≥ 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10 + 11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11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≥ 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12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nodeType="clickEffect" fill="hold">
                      <p:stCondLst>
                        <p:cond delay="0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03" dur="125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505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9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511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1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1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6" dur="1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518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0" dur="1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1" dur="1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5" dur="1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6" dur="1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1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Прямоугольник 1"/>
          <p:cNvSpPr/>
          <p:nvPr/>
        </p:nvSpPr>
        <p:spPr>
          <a:xfrm>
            <a:off x="76320" y="189000"/>
            <a:ext cx="9067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кадрах отделения экстренной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консультативной медицинской помощи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5" name="Прямоугольник 2"/>
          <p:cNvSpPr/>
          <p:nvPr/>
        </p:nvSpPr>
        <p:spPr>
          <a:xfrm>
            <a:off x="384480" y="838080"/>
            <a:ext cx="6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00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286" name=""/>
          <p:cNvGraphicFramePr/>
          <p:nvPr/>
        </p:nvGraphicFramePr>
        <p:xfrm>
          <a:off x="380880" y="1219320"/>
          <a:ext cx="8534520" cy="5165640"/>
        </p:xfrm>
        <a:graphic>
          <a:graphicData uri="http://schemas.openxmlformats.org/drawingml/2006/table">
            <a:tbl>
              <a:tblPr/>
              <a:tblGrid>
                <a:gridCol w="2590920"/>
                <a:gridCol w="762120"/>
                <a:gridCol w="685800"/>
                <a:gridCol w="761760"/>
                <a:gridCol w="1295640"/>
                <a:gridCol w="761760"/>
                <a:gridCol w="609840"/>
                <a:gridCol w="533160"/>
                <a:gridCol w="533520"/>
              </a:tblGrid>
              <a:tr h="730440"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жност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жност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физических лиц основных работник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еют                                          статус спасател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ею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валификационну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тегори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из гр. 5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78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сшу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ву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тору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0" rIns="0" tIns="0" bIns="0" anchor="t">
                      <a:noAutofit/>
                    </a:bodyPr>
                    <a:p>
                      <a:pPr marL="34920" indent="34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и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-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всего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ирург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marL="142920" indent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вматологи-ортопед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marL="142920" indent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йрохирург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marL="142920" indent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естезиологи-реаниматолог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marL="142920" indent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орой медицинской помощ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marL="142920" indent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ушеры-гинеколог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marL="142920" indent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рдиолог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marL="142920" indent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фекционист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marL="142920" indent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оксиколог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marL="142920" indent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ские хирург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marL="142920" indent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диатр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marL="142920" indent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онатолог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marL="155520" indent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е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ий медперсонал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marL="155520" indent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</a:t>
                      </a: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ельдшеры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marL="155520" indent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сестр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е,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 должносте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7" name="Прямоугольник 4"/>
          <p:cNvSpPr/>
          <p:nvPr/>
        </p:nvSpPr>
        <p:spPr>
          <a:xfrm>
            <a:off x="4419720" y="3036960"/>
            <a:ext cx="4495680" cy="237996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аблица 2000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 1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= 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2 + 3 + 4 … + 14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15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≥ 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16 + 17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19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= 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1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5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8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рафа 5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≥ 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рафа 7 + 8 + 9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nodeType="clickEffect" fill="hold">
                      <p:stCondLst>
                        <p:cond delay="0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34" dur="125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536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0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542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1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7" dur="1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549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1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2" dur="1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1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Прямоугольник 1"/>
          <p:cNvSpPr/>
          <p:nvPr/>
        </p:nvSpPr>
        <p:spPr>
          <a:xfrm>
            <a:off x="268560" y="660240"/>
            <a:ext cx="7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aramond"/>
              </a:rPr>
              <a:t>3 00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9" name="Прямоугольник 2"/>
          <p:cNvSpPr/>
          <p:nvPr/>
        </p:nvSpPr>
        <p:spPr>
          <a:xfrm>
            <a:off x="0" y="7632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деятельности отделения экстренной и 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сультативной медицинской помощи 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290" name=""/>
          <p:cNvGraphicFramePr/>
          <p:nvPr/>
        </p:nvGraphicFramePr>
        <p:xfrm>
          <a:off x="304920" y="1146240"/>
          <a:ext cx="8686800" cy="1903320"/>
        </p:xfrm>
        <a:graphic>
          <a:graphicData uri="http://schemas.openxmlformats.org/drawingml/2006/table">
            <a:tbl>
              <a:tblPr/>
              <a:tblGrid>
                <a:gridCol w="609480"/>
                <a:gridCol w="533520"/>
                <a:gridCol w="533160"/>
                <a:gridCol w="533520"/>
                <a:gridCol w="609480"/>
                <a:gridCol w="914400"/>
                <a:gridCol w="533520"/>
                <a:gridCol w="533520"/>
                <a:gridCol w="533160"/>
                <a:gridCol w="533520"/>
                <a:gridCol w="533520"/>
                <a:gridCol w="609480"/>
                <a:gridCol w="533520"/>
                <a:gridCol w="533160"/>
                <a:gridCol w="609840"/>
              </a:tblGrid>
              <a:tr h="182880">
                <a:tc rowSpan="9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 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9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13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азана медицинская помощь, че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8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 rowSpan="3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.ч. детя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8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новными работникам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9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догоспитальном этап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7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 rowSpan="3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.ч. детя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6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(гр.3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 rowSpan="3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традавшим в Ч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 rowSpan="3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традавшим в ДТ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5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о год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4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о год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.ч. детя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 rowSpan="2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.ч. детя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о год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7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о год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91" name=""/>
          <p:cNvGraphicFramePr/>
          <p:nvPr/>
        </p:nvGraphicFramePr>
        <p:xfrm>
          <a:off x="228600" y="3352680"/>
          <a:ext cx="8686800" cy="1684440"/>
        </p:xfrm>
        <a:graphic>
          <a:graphicData uri="http://schemas.openxmlformats.org/drawingml/2006/table">
            <a:tbl>
              <a:tblPr/>
              <a:tblGrid>
                <a:gridCol w="826920"/>
                <a:gridCol w="773280"/>
                <a:gridCol w="685800"/>
                <a:gridCol w="762120"/>
                <a:gridCol w="1066680"/>
                <a:gridCol w="1219320"/>
                <a:gridCol w="1143000"/>
                <a:gridCol w="1143000"/>
                <a:gridCol w="1066680"/>
              </a:tblGrid>
              <a:tr h="182880">
                <a:tc gridSpan="9"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азана медицинская помощь, че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880">
                <a:tc gridSpan="9"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3960">
                <a:tc rowSpan="6">
                  <a:txBody>
                    <a:bodyPr lIns="63360" rIns="63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 rowSpan="2">
                  <a:txBody>
                    <a:bodyPr lIns="63360" rIns="63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.ч. детя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6"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(гр.3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4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 rowSpan="2">
                  <a:txBody>
                    <a:bodyPr lIns="63360" rIns="63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традавшим в Ч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 rowSpan="2">
                  <a:txBody>
                    <a:bodyPr lIns="63360" rIns="63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традавшим в ДТ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8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4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о 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63360" rIns="63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3360" rIns="63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.ч. детя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63360" rIns="63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 rowSpan="2">
                  <a:txBody>
                    <a:bodyPr lIns="63360" rIns="63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.ч. детя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0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о 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6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о 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0320"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63360" rIns="633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2" name="Прямоугольник 6"/>
          <p:cNvSpPr/>
          <p:nvPr/>
        </p:nvSpPr>
        <p:spPr>
          <a:xfrm>
            <a:off x="7010280" y="304812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должение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3" name="Прямоугольник 7"/>
          <p:cNvSpPr/>
          <p:nvPr/>
        </p:nvSpPr>
        <p:spPr>
          <a:xfrm>
            <a:off x="206280" y="5181480"/>
            <a:ext cx="8686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азана медицинская помощь, человек  ВСЕГО  = 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  оказанной  медицинской помощи на догоспитальном  этапе (всего) +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в стационарных  условиях  (всего)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4" name="Прямоугольник 10"/>
          <p:cNvSpPr/>
          <p:nvPr/>
        </p:nvSpPr>
        <p:spPr>
          <a:xfrm>
            <a:off x="163440" y="6087960"/>
            <a:ext cx="87631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0000"/>
                </a:solidFill>
                <a:latin typeface="Garamond"/>
              </a:rPr>
              <a:t>таблица 3000  графа  3 /(4/5)</a:t>
            </a:r>
            <a:r>
              <a:rPr b="1" lang="ru-RU" sz="2200" spc="-1" strike="noStrike">
                <a:solidFill>
                  <a:srgbClr val="ff0000"/>
                </a:solidFill>
                <a:latin typeface="Garamond"/>
              </a:rPr>
              <a:t>  = </a:t>
            </a:r>
            <a:r>
              <a:rPr b="1" i="1" lang="ru-RU" sz="2200" spc="-1" strike="noStrike">
                <a:solidFill>
                  <a:srgbClr val="ff0000"/>
                </a:solidFill>
                <a:latin typeface="Garamond"/>
              </a:rPr>
              <a:t>таблица 3000  графа   7  (8/9) + 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0000"/>
                </a:solidFill>
                <a:latin typeface="Garamond"/>
              </a:rPr>
              <a:t>	</a:t>
            </a:r>
            <a:r>
              <a:rPr b="1" i="1" lang="ru-RU" sz="2200" spc="-1" strike="noStrike">
                <a:solidFill>
                  <a:srgbClr val="ff0000"/>
                </a:solidFill>
                <a:latin typeface="Garamond"/>
              </a:rPr>
              <a:t>	</a:t>
            </a:r>
            <a:r>
              <a:rPr b="1" i="1" lang="ru-RU" sz="2200" spc="-1" strike="noStrike">
                <a:solidFill>
                  <a:srgbClr val="ff0000"/>
                </a:solidFill>
                <a:latin typeface="Garamond"/>
              </a:rPr>
              <a:t>	</a:t>
            </a:r>
            <a:r>
              <a:rPr b="1" i="1" lang="ru-RU" sz="2200" spc="-1" strike="noStrike">
                <a:solidFill>
                  <a:srgbClr val="ff0000"/>
                </a:solidFill>
                <a:latin typeface="Garamond"/>
              </a:rPr>
              <a:t>	</a:t>
            </a:r>
            <a:r>
              <a:rPr b="1" i="1" lang="ru-RU" sz="2200" spc="-1" strike="noStrike">
                <a:solidFill>
                  <a:srgbClr val="ff0000"/>
                </a:solidFill>
                <a:latin typeface="Garamond"/>
              </a:rPr>
              <a:t>	</a:t>
            </a:r>
            <a:r>
              <a:rPr b="1" i="1" lang="ru-RU" sz="2200" spc="-1" strike="noStrike">
                <a:solidFill>
                  <a:srgbClr val="ff0000"/>
                </a:solidFill>
                <a:latin typeface="Garamond"/>
              </a:rPr>
              <a:t>	</a:t>
            </a:r>
            <a:r>
              <a:rPr b="1" i="1" lang="ru-RU" sz="2200" spc="-1" strike="noStrike">
                <a:solidFill>
                  <a:srgbClr val="ff0000"/>
                </a:solidFill>
                <a:latin typeface="Garamond"/>
              </a:rPr>
              <a:t>	</a:t>
            </a:r>
            <a:r>
              <a:rPr b="1" i="1" lang="ru-RU" sz="22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1" i="1" lang="ru-RU" sz="2200" spc="-1" strike="noStrike">
                <a:solidFill>
                  <a:srgbClr val="ff0000"/>
                </a:solidFill>
                <a:latin typeface="Garamond"/>
              </a:rPr>
              <a:t>+ 16 (17/18)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554" dur="indefinite" restart="never" nodeType="tmRoot">
          <p:childTnLst>
            <p:seq>
              <p:cTn id="555" dur="indefinite" nodeType="mainSeq">
                <p:childTnLst>
                  <p:par>
                    <p:cTn id="556" nodeType="clickEffect" fill="hold">
                      <p:stCondLst>
                        <p:cond delay="0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60" dur="125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562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568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1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1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1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3" dur="1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1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1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9" dur="1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1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1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1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5" dur="1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587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9" dur="1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0" dur="1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1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nodeType="afterEffect" fill="hold">
                            <p:stCondLst>
                              <p:cond delay="5250"/>
                            </p:stCondLst>
                            <p:childTnLst>
                              <p:par>
                                <p:cTn id="593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5" dur="1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6" dur="1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5" name=""/>
          <p:cNvGraphicFramePr/>
          <p:nvPr/>
        </p:nvGraphicFramePr>
        <p:xfrm>
          <a:off x="152280" y="762120"/>
          <a:ext cx="6096240" cy="5776920"/>
        </p:xfrm>
        <a:graphic>
          <a:graphicData uri="http://schemas.openxmlformats.org/drawingml/2006/table">
            <a:tbl>
              <a:tblPr/>
              <a:tblGrid>
                <a:gridCol w="5486400"/>
                <a:gridCol w="609840"/>
              </a:tblGrid>
              <a:tr h="39636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я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marL="205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72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лиц, получивших  экстренную консультативную медицинскую помощь, всег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лиц, получивших санитарно-авиационную помощь       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консультаций, всег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заочные консультации, всег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.ч. по телефону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электронной почт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 применением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T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технологий, всего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телемедицинские консультаци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тернет-консультаци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чные консультации, всего,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4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с проведением:                                                            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ирургических операций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анимационных мероприятий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эвакуированных лиц всег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авиационным транспортом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нитарным автотранспортом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м транспортом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правлено для оказания медицинской помощи в стационарных условия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 при медицинской эвакуаци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 поступивших заявок, всег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олнено заявок, всег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72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иационным транспортом, всег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нитарным транспортом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м транспортом, всег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6" name="Прямоугольник 5"/>
          <p:cNvSpPr/>
          <p:nvPr/>
        </p:nvSpPr>
        <p:spPr>
          <a:xfrm>
            <a:off x="76320" y="228600"/>
            <a:ext cx="25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000 продолжение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7" name="Прямоугольник 5"/>
          <p:cNvSpPr/>
          <p:nvPr/>
        </p:nvSpPr>
        <p:spPr>
          <a:xfrm>
            <a:off x="6248520" y="1600200"/>
            <a:ext cx="2819160" cy="420876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аблица 3000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1  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≥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стр.2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3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=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4 + 10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4  = стр.5 + 6 + 7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7  = стр.8+9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10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≥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стр.11+12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13=стр.14+15+16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20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≥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21+22+23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598" dur="indefinite" restart="never" nodeType="tmRoot">
          <p:childTnLst>
            <p:seq>
              <p:cTn id="599" dur="indefinite" nodeType="mainSeq">
                <p:childTnLst>
                  <p:par>
                    <p:cTn id="600" nodeType="clickEffect" fill="hold">
                      <p:stCondLst>
                        <p:cond delay="0"/>
                      </p:stCondLst>
                      <p:childTnLst>
                        <p:par>
                          <p:cTn id="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6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08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0" dur="1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1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1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3" dur="1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15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7" dur="1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8" dur="1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1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Прямоугольник 1"/>
          <p:cNvSpPr/>
          <p:nvPr/>
        </p:nvSpPr>
        <p:spPr>
          <a:xfrm>
            <a:off x="1676520" y="466560"/>
            <a:ext cx="57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центре медицины катастроф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347760" y="1206360"/>
          <a:ext cx="8262720" cy="4524480"/>
        </p:xfrm>
        <a:graphic>
          <a:graphicData uri="http://schemas.openxmlformats.org/drawingml/2006/table">
            <a:tbl>
              <a:tblPr/>
              <a:tblGrid>
                <a:gridCol w="5638680"/>
                <a:gridCol w="838080"/>
                <a:gridCol w="1785960"/>
              </a:tblGrid>
              <a:tr h="6199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метка 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нет – 0, да - 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тус: самостоятельный цент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лиал центра медицины катастро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нтр на базе медицинской организа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0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ластной, краевой, республиканской, окружно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родско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родской скорой медицинской помощ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нции скорой медицинской помощ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ей медицинской организа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подчиненности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рриториальный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жрайонный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жрегиональный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родской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й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6" name="Прямоугольник 3"/>
          <p:cNvSpPr/>
          <p:nvPr/>
        </p:nvSpPr>
        <p:spPr>
          <a:xfrm>
            <a:off x="471960" y="836640"/>
            <a:ext cx="6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00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7" name="Прямоугольник 4"/>
          <p:cNvSpPr/>
          <p:nvPr/>
        </p:nvSpPr>
        <p:spPr>
          <a:xfrm>
            <a:off x="369720" y="5715000"/>
            <a:ext cx="8153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таблица 1000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	</a:t>
            </a: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стр.  3</a:t>
            </a:r>
            <a:r>
              <a:rPr b="1" lang="ru-RU" sz="2000" spc="-1" strike="noStrike">
                <a:solidFill>
                  <a:srgbClr val="ff0000"/>
                </a:solidFill>
                <a:latin typeface="Garamond"/>
              </a:rPr>
              <a:t>  = </a:t>
            </a: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стр.  4 + 5 + 6 + 7 + 8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	</a:t>
            </a: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стр.  9</a:t>
            </a:r>
            <a:r>
              <a:rPr b="1" lang="ru-RU" sz="2000" spc="-1" strike="noStrike">
                <a:solidFill>
                  <a:srgbClr val="ff0000"/>
                </a:solidFill>
                <a:latin typeface="Garamond"/>
              </a:rPr>
              <a:t>  = </a:t>
            </a: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стр.  10 + 11 + 12 + 13 + 14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0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" dur="125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20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26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33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Прямоугольник 5"/>
          <p:cNvSpPr/>
          <p:nvPr/>
        </p:nvSpPr>
        <p:spPr>
          <a:xfrm>
            <a:off x="533520" y="182880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10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9" name="Прямоугольник 1"/>
          <p:cNvSpPr/>
          <p:nvPr/>
        </p:nvSpPr>
        <p:spPr>
          <a:xfrm>
            <a:off x="1600200" y="3124080"/>
            <a:ext cx="563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ставлено: 1 – препаратов крови (л.) __________,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2 – медицинских грузов (тн.) __________.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620" dur="indefinite" restart="never" nodeType="tmRoot">
          <p:childTnLst>
            <p:seq>
              <p:cTn id="621" dur="indefinite" nodeType="mainSeq">
                <p:childTnLst>
                  <p:par>
                    <p:cTn id="622" nodeType="clickEffect" fill="hold">
                      <p:stCondLst>
                        <p:cond delay="0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8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30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2" dur="1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1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1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5" dur="1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Прямоугольник 2"/>
          <p:cNvSpPr/>
          <p:nvPr/>
        </p:nvSpPr>
        <p:spPr>
          <a:xfrm>
            <a:off x="274680" y="14400"/>
            <a:ext cx="8610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выездной работе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деления экстренной и консультативной медицинской помощи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1" name="Прямоугольник 1"/>
          <p:cNvSpPr/>
          <p:nvPr/>
        </p:nvSpPr>
        <p:spPr>
          <a:xfrm>
            <a:off x="115200" y="536400"/>
            <a:ext cx="7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aramond"/>
              </a:rPr>
              <a:t>4 00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302" name="Picture 2" descr=""/>
          <p:cNvPicPr/>
          <p:nvPr/>
        </p:nvPicPr>
        <p:blipFill>
          <a:blip r:embed="rId1"/>
          <a:stretch/>
        </p:blipFill>
        <p:spPr>
          <a:xfrm>
            <a:off x="19080" y="798480"/>
            <a:ext cx="9037440" cy="5410080"/>
          </a:xfrm>
          <a:prstGeom prst="rect">
            <a:avLst/>
          </a:prstGeom>
          <a:ln w="0">
            <a:noFill/>
          </a:ln>
        </p:spPr>
      </p:pic>
      <p:sp>
        <p:nvSpPr>
          <p:cNvPr id="303" name="Прямоугольник 7"/>
          <p:cNvSpPr/>
          <p:nvPr/>
        </p:nvSpPr>
        <p:spPr>
          <a:xfrm>
            <a:off x="2389320" y="3048120"/>
            <a:ext cx="6172200" cy="6426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аблица 4000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1=стр.2+3+4+5+6+7+8+9+10+11+12+13+14+15+16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4" name="Прямоугольник 8"/>
          <p:cNvSpPr/>
          <p:nvPr/>
        </p:nvSpPr>
        <p:spPr>
          <a:xfrm>
            <a:off x="2389320" y="3710160"/>
            <a:ext cx="6172200" cy="19234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графа   9   =   графа  15 + 21 + 27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графа  10  =   графа  16 + 22 + 28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графа  11  =   графа  17 + 23 + 29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графа  12  =   графа  18 + 24 + 30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графа  13  =   графа  19 + 25 + 31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графа  14  =   графа  20 + 26 + 32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5" name="Прямоугольник 4"/>
          <p:cNvSpPr/>
          <p:nvPr/>
        </p:nvSpPr>
        <p:spPr>
          <a:xfrm>
            <a:off x="1523880" y="5668920"/>
            <a:ext cx="7467840" cy="106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эвакуированных всего = 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числу эвакуированных в   </a:t>
            </a:r>
            <a:r>
              <a:rPr b="1" i="1" lang="ru-RU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региональные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</a:t>
            </a:r>
            <a:r>
              <a:rPr b="1" i="1" lang="ru-RU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межрайонные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	</a:t>
            </a:r>
            <a:r>
              <a:rPr b="1" i="1" lang="ru-RU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	</a:t>
            </a:r>
            <a:r>
              <a:rPr b="1" i="1" lang="ru-RU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	</a:t>
            </a:r>
            <a:r>
              <a:rPr b="1" i="1" lang="ru-RU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            </a:t>
            </a:r>
            <a:r>
              <a:rPr b="1" i="1" lang="ru-RU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федеральные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ицинские организации 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636" dur="indefinite" restart="never" nodeType="tmRoot">
          <p:childTnLst>
            <p:seq>
              <p:cTn id="637" dur="indefinite" nodeType="mainSeq">
                <p:childTnLst>
                  <p:par>
                    <p:cTn id="638" nodeType="clickEffect" fill="hold">
                      <p:stCondLst>
                        <p:cond delay="0"/>
                      </p:stCondLst>
                      <p:childTnLst>
                        <p:par>
                          <p:cTn id="6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42" dur="125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644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6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8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650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2" dur="1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1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1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5" dur="1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6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657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9" dur="1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0" dur="1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1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2" nodeType="with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4" dur="1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5" dur="1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1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nodeType="afterEffect" fill="hold">
                            <p:stCondLst>
                              <p:cond delay="5250"/>
                            </p:stCondLst>
                            <p:childTnLst>
                              <p:par>
                                <p:cTn id="668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0" dur="1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1" dur="1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1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Прямоугольник 2"/>
          <p:cNvSpPr/>
          <p:nvPr/>
        </p:nvSpPr>
        <p:spPr>
          <a:xfrm>
            <a:off x="1676520" y="838080"/>
            <a:ext cx="533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ТАБЛИЧНЫЙ    КОНТРОЛЬ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7" name="Прямоугольник 4"/>
          <p:cNvSpPr/>
          <p:nvPr/>
        </p:nvSpPr>
        <p:spPr>
          <a:xfrm>
            <a:off x="233280" y="175248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лиц, получивших экстренную консультативную медицинскую помощь, пострадавшим в ЧС=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 числу оказанной экстренной консультативной медицинской помощи,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радавшим в ЧС 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8" name="Прямоугольник 1"/>
          <p:cNvSpPr/>
          <p:nvPr/>
        </p:nvSpPr>
        <p:spPr>
          <a:xfrm>
            <a:off x="271440" y="3048120"/>
            <a:ext cx="8534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таблица 3 000  стр. 1 гр. 10 (11/12) + стр. 1 гр. 19(20/21) =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= таблица 4 000  стр. 1 гр. 6 (7/8)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9" name="Прямоугольник 4"/>
          <p:cNvSpPr/>
          <p:nvPr/>
        </p:nvSpPr>
        <p:spPr>
          <a:xfrm>
            <a:off x="195120" y="417348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эвакуированных отделениями экстренной и консультативной медицинской помощи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0" name="Прямоугольник 1"/>
          <p:cNvSpPr/>
          <p:nvPr/>
        </p:nvSpPr>
        <p:spPr>
          <a:xfrm>
            <a:off x="233280" y="4952880"/>
            <a:ext cx="8763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таблица 3 000  стр. 13 гр.3 (4/5) = таблица 4 000  стр. 1 гр. 9 (10/11)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673" dur="indefinite" restart="never" nodeType="tmRoot">
          <p:childTnLst>
            <p:seq>
              <p:cTn id="674" dur="indefinite" nodeType="mainSeq">
                <p:childTnLst>
                  <p:par>
                    <p:cTn id="675" nodeType="clickEffect" fill="hold">
                      <p:stCondLst>
                        <p:cond delay="0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9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83" nodeType="afterEffect" fill="hold" presetClass="entr" presetID="42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5" dur="1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6" dur="1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1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42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1" dur="1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1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694" nodeType="afterEffect" fill="hold" presetClass="entr" presetID="42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6" dur="1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7" dur="1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1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9" nodeType="withEffect" fill="hold" presetClass="entr" presetID="42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1" dur="1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2" dur="1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1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55440" y="4680"/>
            <a:ext cx="3678480" cy="836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ОБРАЗЕЦ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2" name="TextBox 5"/>
          <p:cNvSpPr/>
          <p:nvPr/>
        </p:nvSpPr>
        <p:spPr>
          <a:xfrm>
            <a:off x="366840" y="99072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асшифровка ФОРМА №55, таблица 2000 (стр. 29, 40)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313" name=""/>
          <p:cNvGraphicFramePr/>
          <p:nvPr/>
        </p:nvGraphicFramePr>
        <p:xfrm>
          <a:off x="685800" y="1752480"/>
          <a:ext cx="7948440" cy="2951280"/>
        </p:xfrm>
        <a:graphic>
          <a:graphicData uri="http://schemas.openxmlformats.org/drawingml/2006/table">
            <a:tbl>
              <a:tblPr/>
              <a:tblGrid>
                <a:gridCol w="2004840"/>
                <a:gridCol w="609840"/>
                <a:gridCol w="761760"/>
                <a:gridCol w="685800"/>
                <a:gridCol w="914400"/>
                <a:gridCol w="838440"/>
                <a:gridCol w="761760"/>
                <a:gridCol w="685800"/>
                <a:gridCol w="685800"/>
              </a:tblGrid>
              <a:tr h="630000"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ей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лжност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физических лиц основных работник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еют статус спасателя (из гр. 5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еют квалификационную категори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из гр. 5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9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сшу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ву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тору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024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516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516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врач-методис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1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й персонал– всего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5160">
                <a:tc>
                  <a:txBody>
                    <a:bodyPr lIns="68760" rIns="68760" tIns="0" bIns="0" anchor="b">
                      <a:noAutofit/>
                    </a:bodyPr>
                    <a:p>
                      <a:pPr marL="128520" indent="2541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диспетче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5160">
                <a:tc>
                  <a:txBody>
                    <a:bodyPr lIns="68760" rIns="68760" tIns="0" bIns="0" anchor="t">
                      <a:noAutofit/>
                    </a:bodyPr>
                    <a:p>
                      <a:pPr marL="128520" indent="2541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Calibri"/>
                        </a:rPr>
                        <a:t>бухгалте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14" name=""/>
          <p:cNvGraphicFramePr/>
          <p:nvPr/>
        </p:nvGraphicFramePr>
        <p:xfrm>
          <a:off x="609480" y="4952880"/>
          <a:ext cx="8015400" cy="1252800"/>
        </p:xfrm>
        <a:graphic>
          <a:graphicData uri="http://schemas.openxmlformats.org/drawingml/2006/table">
            <a:tbl>
              <a:tblPr/>
              <a:tblGrid>
                <a:gridCol w="2340000"/>
                <a:gridCol w="274680"/>
                <a:gridCol w="2616120"/>
                <a:gridCol w="276480"/>
                <a:gridCol w="2508120"/>
              </a:tblGrid>
              <a:tr h="490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должность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Ф.И.О.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подпись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714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________________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il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 __________________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____» _________20__ 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0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номер контактного телефона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дата составл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кумента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5" name="Прямоугольник 6"/>
          <p:cNvSpPr/>
          <p:nvPr/>
        </p:nvSpPr>
        <p:spPr>
          <a:xfrm rot="19653000">
            <a:off x="3484080" y="5149800"/>
            <a:ext cx="2362320" cy="609480"/>
          </a:xfrm>
          <a:prstGeom prst="rect">
            <a:avLst/>
          </a:prstGeom>
          <a:noFill/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nstantia"/>
              </a:rPr>
              <a:t>П Е Ч А Т Ь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nodeType="clickEffect" fill="hold">
                      <p:stCondLst>
                        <p:cond delay="0"/>
                      </p:stCondLst>
                      <p:childTnLst>
                        <p:par>
                          <p:cTn id="7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afterEffect" fill="hold" presetClass="emph" presetID="32" repeatCount="1000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709" dur="1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10" dur="300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711" dur="3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12" dur="3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713" dur="3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оугольник 1"/>
          <p:cNvSpPr/>
          <p:nvPr/>
        </p:nvSpPr>
        <p:spPr>
          <a:xfrm>
            <a:off x="1143000" y="51120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кадрах центров медицины катастроф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9" name="Прямоугольник 2"/>
          <p:cNvSpPr/>
          <p:nvPr/>
        </p:nvSpPr>
        <p:spPr>
          <a:xfrm>
            <a:off x="349560" y="990720"/>
            <a:ext cx="6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00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304920" y="1371600"/>
          <a:ext cx="8458200" cy="4738680"/>
        </p:xfrm>
        <a:graphic>
          <a:graphicData uri="http://schemas.openxmlformats.org/drawingml/2006/table">
            <a:tbl>
              <a:tblPr/>
              <a:tblGrid>
                <a:gridCol w="2438280"/>
                <a:gridCol w="609480"/>
                <a:gridCol w="533520"/>
                <a:gridCol w="514440"/>
                <a:gridCol w="1085760"/>
                <a:gridCol w="914400"/>
                <a:gridCol w="838080"/>
                <a:gridCol w="762120"/>
                <a:gridCol w="762120"/>
              </a:tblGrid>
              <a:tr h="639720"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ей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лжност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физических лиц основных работник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еют статус спасател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еют квалификационную категори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из гр. 5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65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сшу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ву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тору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и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- всего                    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в том числе:</a:t>
                      </a: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ециалисты с высши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медицински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разованием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изор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ий медицинский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сонал - всего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армацев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ладший медицинский персона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й персонал– всего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 должност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1" name="Прямоугольник 4"/>
          <p:cNvSpPr/>
          <p:nvPr/>
        </p:nvSpPr>
        <p:spPr>
          <a:xfrm>
            <a:off x="3429000" y="3048120"/>
            <a:ext cx="5334120" cy="131364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аблица 2000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1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=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2 + 3 + 4 … + 29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43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=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1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0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2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3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8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9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рафа 5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≥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рафа 7 + 8 + 9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0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4" dur="125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46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52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59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Прямоугольник 1"/>
          <p:cNvSpPr/>
          <p:nvPr/>
        </p:nvSpPr>
        <p:spPr>
          <a:xfrm>
            <a:off x="685800" y="68580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я службы медицины катастроф (СМК)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3" name="Прямоугольник 2"/>
          <p:cNvSpPr/>
          <p:nvPr/>
        </p:nvSpPr>
        <p:spPr>
          <a:xfrm>
            <a:off x="197280" y="1328760"/>
            <a:ext cx="6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00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14" name="Таблица 3" descr=""/>
          <p:cNvPicPr/>
          <p:nvPr/>
        </p:nvPicPr>
        <p:blipFill>
          <a:blip r:embed="rId1"/>
          <a:stretch/>
        </p:blipFill>
        <p:spPr>
          <a:xfrm>
            <a:off x="225360" y="1689120"/>
            <a:ext cx="8693280" cy="1773360"/>
          </a:xfrm>
          <a:prstGeom prst="rect">
            <a:avLst/>
          </a:prstGeom>
          <a:ln w="0">
            <a:noFill/>
          </a:ln>
        </p:spPr>
      </p:pic>
      <p:sp>
        <p:nvSpPr>
          <p:cNvPr id="215" name="Прямоугольник 4"/>
          <p:cNvSpPr/>
          <p:nvPr/>
        </p:nvSpPr>
        <p:spPr>
          <a:xfrm>
            <a:off x="222120" y="3633840"/>
            <a:ext cx="88455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В графе 3 указываем число всех формирований СМК</a:t>
            </a:r>
            <a:endParaRPr b="0" lang="en-US" sz="21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В графе 4 указываем число формирований, состоящих в штате ЦМК</a:t>
            </a:r>
            <a:endParaRPr b="0" lang="en-US" sz="21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6" name="Прямоугольник 4"/>
          <p:cNvSpPr/>
          <p:nvPr/>
        </p:nvSpPr>
        <p:spPr>
          <a:xfrm>
            <a:off x="184320" y="4572000"/>
            <a:ext cx="8721720" cy="81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 графах 3 и 4 </a:t>
            </a:r>
            <a:r>
              <a:rPr b="1" lang="ru-RU" sz="23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казываем число формирований задействованных в СМК (на конец отчетного года).</a:t>
            </a:r>
            <a:endParaRPr b="0" lang="en-US" sz="23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7" name="Прямоугольник 4"/>
          <p:cNvSpPr/>
          <p:nvPr/>
        </p:nvSpPr>
        <p:spPr>
          <a:xfrm>
            <a:off x="184320" y="5486400"/>
            <a:ext cx="8664480" cy="81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 графах 5 и 6</a:t>
            </a:r>
            <a:r>
              <a:rPr b="1" lang="ru-RU" sz="23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указываем количество выездов формирований СМК  на ликвидацию медико-санитарных последствий ЧС.</a:t>
            </a:r>
            <a:endParaRPr b="0" lang="en-US" sz="23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0" dur="125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72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78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1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8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5250"/>
                            </p:stCondLst>
                            <p:childTnLst>
                              <p:par>
                                <p:cTn id="91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6750"/>
                            </p:stCondLst>
                            <p:childTnLst>
                              <p:par>
                                <p:cTn id="97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Прямоугольник 1"/>
          <p:cNvSpPr/>
          <p:nvPr/>
        </p:nvSpPr>
        <p:spPr>
          <a:xfrm>
            <a:off x="533520" y="11268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я службы медицины катастроф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МК)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9" name="Прямоугольник 2"/>
          <p:cNvSpPr/>
          <p:nvPr/>
        </p:nvSpPr>
        <p:spPr>
          <a:xfrm>
            <a:off x="6324480" y="590400"/>
            <a:ext cx="262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000  (продолжение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20" name="Таблица 3" descr=""/>
          <p:cNvPicPr/>
          <p:nvPr/>
        </p:nvPicPr>
        <p:blipFill>
          <a:blip r:embed="rId1"/>
          <a:stretch/>
        </p:blipFill>
        <p:spPr>
          <a:xfrm>
            <a:off x="281160" y="2073240"/>
            <a:ext cx="8691480" cy="1766880"/>
          </a:xfrm>
          <a:prstGeom prst="rect">
            <a:avLst/>
          </a:prstGeom>
          <a:ln w="0">
            <a:noFill/>
          </a:ln>
        </p:spPr>
      </p:pic>
      <p:sp>
        <p:nvSpPr>
          <p:cNvPr id="221" name="Прямоугольник 4"/>
          <p:cNvSpPr/>
          <p:nvPr/>
        </p:nvSpPr>
        <p:spPr>
          <a:xfrm>
            <a:off x="304920" y="1074600"/>
            <a:ext cx="8645400" cy="1191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Garamond"/>
              </a:rPr>
              <a:t>таблица 3000 стр.1</a:t>
            </a:r>
            <a:r>
              <a:rPr b="1" lang="ru-RU" sz="2400" spc="-1" strike="noStrike">
                <a:solidFill>
                  <a:srgbClr val="ff0000"/>
                </a:solidFill>
                <a:latin typeface="Garamond"/>
              </a:rPr>
              <a:t> =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Garamond"/>
              </a:rPr>
              <a:t>=</a:t>
            </a:r>
            <a:r>
              <a:rPr b="1" i="1" lang="ru-RU" sz="2400" spc="-1" strike="noStrike">
                <a:solidFill>
                  <a:srgbClr val="ff0000"/>
                </a:solidFill>
                <a:latin typeface="Garamond"/>
              </a:rPr>
              <a:t> стр. 2+3+4+5+30+31+32+33+50+51+52+56+57+58+59+60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2" name="Прямоугольник 4"/>
          <p:cNvSpPr/>
          <p:nvPr/>
        </p:nvSpPr>
        <p:spPr>
          <a:xfrm>
            <a:off x="1558800" y="1905120"/>
            <a:ext cx="7391520" cy="5031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Формирования службы медицины катастроф, всего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1)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ходят: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евой многопрофильный госпиталь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2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ицинские отряды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3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игады экстренного реагирования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4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игады специализированной медицинской помощи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5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иамедицинские бригады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30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ачебно-сестринские бригады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31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игады экстренной доврачебной медицинской помощи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32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ездные бригады скорой медицинской помощи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33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изированные противоэпидемические бригады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50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нитарно-эпидемиологические отряды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51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нитарно-эпидемиологические бригады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52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пы радиационной разведки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56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пы санитарно-эпидемиологической разведки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57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пы химической (токсикологической) разведки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58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еративная  группа ТЦМК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59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чие формирования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60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0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8" dur="125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110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116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1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123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5250"/>
                            </p:stCondLst>
                            <p:childTnLst>
                              <p:par>
                                <p:cTn id="129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Прямоугольник 1"/>
          <p:cNvSpPr/>
          <p:nvPr/>
        </p:nvSpPr>
        <p:spPr>
          <a:xfrm>
            <a:off x="414360" y="685800"/>
            <a:ext cx="853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чрезвычайных ситуациях (ЧС), числе пострадавших, видам оказанной помощи и степени тяжести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4" name="Прямоугольник 2"/>
          <p:cNvSpPr/>
          <p:nvPr/>
        </p:nvSpPr>
        <p:spPr>
          <a:xfrm>
            <a:off x="604800" y="4495680"/>
            <a:ext cx="8153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нные о ЧС с медико-санитарными последствиями должны соответствовать, представленным донесениям в ВСЕРОССИЙСКУЮ СИСТЕМУ ОПЕРАТИВНЫХ ДОНЕСЕНИЙ О ЧРЕЗВЫЧАЙНЫХ СИТУАЦИЯХ в ВЦМК «ЗАЩИТА»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25" name="Picture 2" descr=""/>
          <p:cNvPicPr/>
          <p:nvPr/>
        </p:nvPicPr>
        <p:blipFill>
          <a:blip r:embed="rId1"/>
          <a:stretch/>
        </p:blipFill>
        <p:spPr>
          <a:xfrm>
            <a:off x="2308320" y="1495440"/>
            <a:ext cx="4257720" cy="271476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0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0" dur="125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142" nodeType="after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mph" presetID="16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48" dur="1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149" dur="1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150" dur="1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Прямоугольник 1"/>
          <p:cNvSpPr/>
          <p:nvPr/>
        </p:nvSpPr>
        <p:spPr>
          <a:xfrm>
            <a:off x="423720" y="609480"/>
            <a:ext cx="853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чрезвычайных ситуациях (ЧС), числе пострадавших, видам оказанной помощи и степени тяжести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7" name="Прямоугольник 2"/>
          <p:cNvSpPr/>
          <p:nvPr/>
        </p:nvSpPr>
        <p:spPr>
          <a:xfrm>
            <a:off x="408240" y="1371600"/>
            <a:ext cx="6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00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28" name="Таблица 8" descr=""/>
          <p:cNvPicPr/>
          <p:nvPr/>
        </p:nvPicPr>
        <p:blipFill>
          <a:blip r:embed="rId1"/>
          <a:stretch/>
        </p:blipFill>
        <p:spPr>
          <a:xfrm>
            <a:off x="407880" y="1639800"/>
            <a:ext cx="8205840" cy="3181320"/>
          </a:xfrm>
          <a:prstGeom prst="rect">
            <a:avLst/>
          </a:prstGeom>
          <a:ln w="0">
            <a:noFill/>
          </a:ln>
        </p:spPr>
      </p:pic>
      <p:sp>
        <p:nvSpPr>
          <p:cNvPr id="229" name="Прямоугольник 4"/>
          <p:cNvSpPr/>
          <p:nvPr/>
        </p:nvSpPr>
        <p:spPr>
          <a:xfrm>
            <a:off x="542880" y="4863960"/>
            <a:ext cx="809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пострадавших = число пораженных</a:t>
            </a:r>
            <a:r>
              <a:rPr b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 погибших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0" name="Прямоугольник 5"/>
          <p:cNvSpPr/>
          <p:nvPr/>
        </p:nvSpPr>
        <p:spPr>
          <a:xfrm>
            <a:off x="228600" y="5334120"/>
            <a:ext cx="8720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Погибшими (графа 8 и 9)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читаются люди, которые умерли на месте ЧС,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до прибытия бригад СМП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1" name="Прямоугольник 6"/>
          <p:cNvSpPr/>
          <p:nvPr/>
        </p:nvSpPr>
        <p:spPr>
          <a:xfrm>
            <a:off x="652320" y="6041880"/>
            <a:ext cx="814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пораженных = числу крайне тяжелых + тяжелых +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+ средней тяжести + легких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0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7" dur="125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159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165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1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172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5750"/>
                            </p:stCondLst>
                            <p:childTnLst>
                              <p:par>
                                <p:cTn id="178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7750"/>
                            </p:stCondLst>
                            <p:childTnLst>
                              <p:par>
                                <p:cTn id="184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Прямоугольник 2"/>
          <p:cNvSpPr/>
          <p:nvPr/>
        </p:nvSpPr>
        <p:spPr>
          <a:xfrm>
            <a:off x="6315120" y="679320"/>
            <a:ext cx="262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000  (продолжение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482760" y="1049400"/>
          <a:ext cx="8458200" cy="2333520"/>
        </p:xfrm>
        <a:graphic>
          <a:graphicData uri="http://schemas.openxmlformats.org/drawingml/2006/table">
            <a:tbl>
              <a:tblPr/>
              <a:tblGrid>
                <a:gridCol w="1447560"/>
                <a:gridCol w="457200"/>
                <a:gridCol w="914400"/>
                <a:gridCol w="762120"/>
                <a:gridCol w="609480"/>
                <a:gridCol w="609840"/>
                <a:gridCol w="990360"/>
                <a:gridCol w="838440"/>
                <a:gridCol w="1041120"/>
                <a:gridCol w="787680"/>
              </a:tblGrid>
              <a:tr h="411120">
                <a:tc rowSpan="3"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именование чрезвычайных ситуац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т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 rowSpan="2"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Число пораженных, которым оказана первая помощ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6"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иды оказанной медицинской помощ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1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ервичн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едико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анитарн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пециализированная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 т.ч., высоко-технологичн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корая,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 т.ч. скорая  специализированн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6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з ни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ет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з ни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ет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з ни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ет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з ни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ет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560"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200">
                <a:tc>
                  <a:txBody>
                    <a:bodyPr lIns="57600" rIns="57600" tIns="0" bIns="0" anchor="ctr">
                      <a:noAutofit/>
                    </a:bodyPr>
                    <a:p>
                      <a:pPr marL="88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4" name="Прямоугольник 3"/>
          <p:cNvSpPr/>
          <p:nvPr/>
        </p:nvSpPr>
        <p:spPr>
          <a:xfrm>
            <a:off x="423720" y="3429000"/>
            <a:ext cx="38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пораженных  </a:t>
            </a:r>
            <a:r>
              <a:rPr b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графа 6/7)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5" name="Прямоугольник 3"/>
          <p:cNvSpPr/>
          <p:nvPr/>
        </p:nvSpPr>
        <p:spPr>
          <a:xfrm>
            <a:off x="1473120" y="379872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пораженных, которым оказана первая помощь </a:t>
            </a:r>
            <a:r>
              <a:rPr b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графа 18/19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первичная медико-санитарная </a:t>
            </a:r>
            <a:r>
              <a:rPr b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графа 20/21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специализированная, в т.ч. высокотехнологичная  </a:t>
            </a:r>
            <a:r>
              <a:rPr b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графа 22/23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скорая, в т.ч. скорая специализированная мед.помощь </a:t>
            </a:r>
            <a:r>
              <a:rPr b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графа 24/25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6" name="Прямоугольник 4"/>
          <p:cNvSpPr/>
          <p:nvPr/>
        </p:nvSpPr>
        <p:spPr>
          <a:xfrm>
            <a:off x="1158840" y="5003640"/>
            <a:ext cx="661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.е. одному пострадавшему в ЧС может быть оказано несколько видов медицинской помощи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7" name="Прямоугольник 6"/>
          <p:cNvSpPr/>
          <p:nvPr/>
        </p:nvSpPr>
        <p:spPr>
          <a:xfrm>
            <a:off x="457200" y="5780160"/>
            <a:ext cx="8686800" cy="106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Федеральный закон № 323 от 21.11.2011г.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Об основах охраны здоровья граждан в Российской Федерации»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             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. с 31 по 35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0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9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1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0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1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24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Прямоугольник 3"/>
          <p:cNvSpPr/>
          <p:nvPr/>
        </p:nvSpPr>
        <p:spPr>
          <a:xfrm>
            <a:off x="38160" y="4633920"/>
            <a:ext cx="904068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числа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аженных показываем →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вакуированных </a:t>
            </a:r>
            <a:r>
              <a:rPr b="1" i="1" lang="ru-RU" sz="1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графа 26/27) </a:t>
            </a:r>
            <a:endParaRPr b="0" lang="en-US" sz="17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→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спитализированных </a:t>
            </a:r>
            <a:r>
              <a:rPr b="1" i="1" lang="ru-RU" sz="1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графа 28/29) </a:t>
            </a:r>
            <a:endParaRPr b="0" lang="en-US" sz="17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→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гибших до начала эвакуации </a:t>
            </a:r>
            <a:r>
              <a:rPr b="1" i="1" lang="ru-RU" sz="1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графа 30/31) </a:t>
            </a:r>
            <a:endParaRPr b="0" lang="en-US" sz="1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9" name="Прямоугольник 2"/>
          <p:cNvSpPr/>
          <p:nvPr/>
        </p:nvSpPr>
        <p:spPr>
          <a:xfrm>
            <a:off x="6210360" y="22860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000   продолжение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40" name="Таблица 6" descr=""/>
          <p:cNvPicPr/>
          <p:nvPr/>
        </p:nvPicPr>
        <p:blipFill>
          <a:blip r:embed="rId1"/>
          <a:stretch/>
        </p:blipFill>
        <p:spPr>
          <a:xfrm>
            <a:off x="378000" y="695160"/>
            <a:ext cx="5510160" cy="3926160"/>
          </a:xfrm>
          <a:prstGeom prst="rect">
            <a:avLst/>
          </a:prstGeom>
          <a:ln w="0">
            <a:noFill/>
          </a:ln>
        </p:spPr>
      </p:pic>
      <p:sp>
        <p:nvSpPr>
          <p:cNvPr id="241" name="Прямоугольник 3"/>
          <p:cNvSpPr/>
          <p:nvPr/>
        </p:nvSpPr>
        <p:spPr>
          <a:xfrm>
            <a:off x="914400" y="4952880"/>
            <a:ext cx="175248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таблица 4 000 </a:t>
            </a:r>
            <a:endParaRPr b="0" lang="en-US" sz="17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рафа 6/7) </a:t>
            </a:r>
            <a:endParaRPr b="0" lang="en-US" sz="1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2" name="Прямоугольник 12"/>
          <p:cNvSpPr/>
          <p:nvPr/>
        </p:nvSpPr>
        <p:spPr>
          <a:xfrm>
            <a:off x="5867280" y="1359000"/>
            <a:ext cx="3276720" cy="3988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рафа 6/7  ≥  графа 26/27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3" name="Прямоугольник 13"/>
          <p:cNvSpPr/>
          <p:nvPr/>
        </p:nvSpPr>
        <p:spPr>
          <a:xfrm>
            <a:off x="5857920" y="1924200"/>
            <a:ext cx="3276720" cy="3988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рафа 6/7  ≥  графа 28/29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4" name="Прямоугольник 14"/>
          <p:cNvSpPr/>
          <p:nvPr/>
        </p:nvSpPr>
        <p:spPr>
          <a:xfrm>
            <a:off x="5886360" y="2505240"/>
            <a:ext cx="3276720" cy="3988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рафа 6/7  ≥  графа 30/31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5" name="Прямоугольник 3"/>
          <p:cNvSpPr/>
          <p:nvPr/>
        </p:nvSpPr>
        <p:spPr>
          <a:xfrm>
            <a:off x="81000" y="5546880"/>
            <a:ext cx="904068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числа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вакуированных показываем →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гибших в ходе эвакуации</a:t>
            </a:r>
            <a:endParaRPr b="0" lang="en-US" sz="1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6" name="Прямоугольник 3"/>
          <p:cNvSpPr/>
          <p:nvPr/>
        </p:nvSpPr>
        <p:spPr>
          <a:xfrm>
            <a:off x="1066680" y="5753160"/>
            <a:ext cx="29718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таблица 4 000  графа 26/27) </a:t>
            </a:r>
            <a:endParaRPr b="0" lang="en-US" sz="1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7" name="Прямоугольник 3"/>
          <p:cNvSpPr/>
          <p:nvPr/>
        </p:nvSpPr>
        <p:spPr>
          <a:xfrm>
            <a:off x="5170320" y="5757840"/>
            <a:ext cx="189396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графа 32/33) </a:t>
            </a:r>
            <a:endParaRPr b="0" lang="en-US" sz="1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8" name="Прямоугольник 18"/>
          <p:cNvSpPr/>
          <p:nvPr/>
        </p:nvSpPr>
        <p:spPr>
          <a:xfrm>
            <a:off x="5888160" y="3141720"/>
            <a:ext cx="3265200" cy="3988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рафа 26/27  ≥  графа 32/33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9" name="Прямоугольник 3"/>
          <p:cNvSpPr/>
          <p:nvPr/>
        </p:nvSpPr>
        <p:spPr>
          <a:xfrm>
            <a:off x="92160" y="6110280"/>
            <a:ext cx="882324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числа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спитализированных показываем →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гибших в мед.организациях</a:t>
            </a:r>
            <a:endParaRPr b="0" lang="en-US" sz="1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0" name="Прямоугольник 3"/>
          <p:cNvSpPr/>
          <p:nvPr/>
        </p:nvSpPr>
        <p:spPr>
          <a:xfrm>
            <a:off x="990720" y="6400800"/>
            <a:ext cx="29718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таблица 4 000  графа 28/29) </a:t>
            </a:r>
            <a:endParaRPr b="0" lang="en-US" sz="1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1" name="Прямоугольник 3"/>
          <p:cNvSpPr/>
          <p:nvPr/>
        </p:nvSpPr>
        <p:spPr>
          <a:xfrm>
            <a:off x="5886360" y="6400800"/>
            <a:ext cx="164952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графа 34/35) </a:t>
            </a:r>
            <a:endParaRPr b="0" lang="en-US" sz="1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2" name="Прямоугольник 22"/>
          <p:cNvSpPr/>
          <p:nvPr/>
        </p:nvSpPr>
        <p:spPr>
          <a:xfrm>
            <a:off x="5856120" y="3649680"/>
            <a:ext cx="3276720" cy="3988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рафа 28/29  ≥  графа 34/35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nodeType="clickEffect" fill="hold">
                      <p:stCondLst>
                        <p:cond delay="0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8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1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1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4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56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2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7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2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2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9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2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2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попов</dc:creator>
  <dc:description/>
  <dc:language>en-US</dc:language>
  <cp:lastModifiedBy>Елена Александровна Бронникова</cp:lastModifiedBy>
  <cp:lastPrinted>2016-12-07T09:58:05Z</cp:lastPrinted>
  <dcterms:modified xsi:type="dcterms:W3CDTF">2020-12-09T01:33:50Z</dcterms:modified>
  <cp:revision>57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