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B95B-3C9C-4B4A-8B7D-A88BE7A2DE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139E-754E-4B63-AD70-33C4BBD37B6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E34D-81FD-4E50-95DA-80889497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3E6F-3E24-4FC7-A6C1-831229FD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FF30-88F6-4179-997D-E1E7DE86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E91C-5031-4166-B50D-489DE9F9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DEE5-8A53-4A4A-A534-8989CD2E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CE73-9200-4376-A95F-5788AFF2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9887-2198-4069-B3C1-F2264991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886C-8B77-4CDD-80DA-C07F74C7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D905-5EA0-4238-A00C-2CF14F6F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7E23-6BFA-495B-A11A-E549583C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1715-8111-4000-883B-293BECB8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CC92-1F6F-4019-9EEB-8395E662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07D2-7546-4EA8-9F53-4AC992C8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1DD9-0A36-40A5-B016-EBE0C447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4BAC-30D2-4519-92F2-1F51DE5F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6C2C-71E0-4459-B47E-F8149966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77CA-1B66-473E-959F-FF482C59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A53A0-4E73-4A6B-897A-DE40DAF86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818672-17D2-44B8-A79B-83F5B4B5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BDE0C-642D-401A-8C7F-D638B268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CE8E4-1719-45B8-ACB9-5E64E43B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685D81-765C-4F52-B8E8-D0A638DB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3831-ECAB-4A6E-8A92-4853E8AB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D999AA-6A07-45A2-8528-89D763FE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11605-E28A-4AD9-BDE3-C81A8CED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895508-8B0E-41C4-95F2-7C026751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223272-A4B0-4C88-84B5-9DD70ED1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5552E9-20E2-49D2-92B2-DAA6FB10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AA8E70-20B5-4E41-9A19-470752A0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97321-F49F-4415-8B94-B0FB7EEF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CA5909-47C5-44CA-9533-EB30675F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F82015-C022-4E57-9321-7609D633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0CDFF1-8061-4CBA-97A1-4FAD11D7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B474-8420-4EBB-884C-5C5C2BE8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F521C6-38D0-49F1-A6A0-8396AAD2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7D02B7-E599-4D9B-950D-2FA311BC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90A48D-0913-4DE3-B625-D61312AA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B37CAE-68CE-423F-A476-E98DF3CE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B82FDB-53E8-4117-8DA5-EC42ABE8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C15322-BD6F-4853-B0CA-595FE648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9D7922-FFB0-4289-932A-88F8AF84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2F23D4-A979-4E17-BE2F-6F66B5D8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C70AF3-881E-41E4-A30F-52BC0E05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C1FB-2168-41C7-A8D7-9C947BD2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EE42-FAF0-43BF-89FF-4401CC55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A72-9593-4B33-A432-DDBA3F73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6A43-1256-4138-929F-462A3C50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E95E-4908-4522-959D-7C0687B2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777E-E184-4EA3-97A9-F085DBCA14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0F31-6388-4AB8-9809-76A430BE91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2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A60F-3305-401C-B8D5-1DC0632520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7561-4610-4503-A371-1FD3AFD823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Сведения о контингентах больных с психическими расстройствами, находящихся на активном диспансерном наблюдении и на принудительном лечении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” 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(Форма № 36-ПЛ) 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132000" y="4221000"/>
            <a:ext cx="5554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ГБУ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МИЦПН имени В.П.Сербског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инзд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дел судебно-психиатрической профилак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зько Наталья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арабидзе Нино Гурам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сновы предварительной подготовки отче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684360" y="1844640"/>
            <a:ext cx="755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1. Использование программы «ТЕРПИНС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2. Сравнение с показателями предыдущего г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3. Подготовка пояснительных записок по проблемным показателя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8"/>
          <p:cNvSpPr/>
          <p:nvPr/>
        </p:nvSpPr>
        <p:spPr>
          <a:xfrm>
            <a:off x="0" y="404640"/>
            <a:ext cx="9499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Контингенты больных, находящихся под активны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диспансерным наблюдением  АДН ( таблица 21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1. Проверка показателя «группы риска» (р.з.15-30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2. 2110, п.3 число снятых с АДН в связи с отсутств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ведений в течение года (р.з.2-3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3. 2130,п. 2 сопоставить с показателем находящихся 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тационарном ПЛ (сумма строк 5 и 6 гр.14 таб.2200)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по РФ за 2019г. - 39,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1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280" y="1989000"/>
            <a:ext cx="81471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итель:  сумма строк 5 и 6 по гр.8 таблицы 2100 формы 36-ПЛ минус сумма строк 5 и 6 гр.10 той же табл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менатель: сумма строк 5 и 6 по гр.8 таблицы 2100 формы 36-П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ножить на 1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очтительное значение от 15 до 3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395280" y="11592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Расчёт показателя, характеризующего формирование группы АДН (%% больных, поставленных под АДН и не совершивших в течение жизни ООД –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“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группа риск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”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0080" y="15840"/>
            <a:ext cx="8677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3e3ff"/>
                </a:solidFill>
                <a:latin typeface="Arial"/>
              </a:rPr>
              <a:t>Контингенты больных, находящихся на принудительном наблюдении и лечении у психиатра в амбулаторных условиях (ПНЛА)</a:t>
            </a:r>
            <a:endParaRPr b="0" lang="en-US" sz="3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1773000"/>
            <a:ext cx="8391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таблицы 2140- 21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оотношение числа находящихся на  ПНЛА ко всем лицам с ПММХ (38,5% по РФ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Средняя продолжительность ПНЛА (по РФ в 2019г. – 625 дне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2190,п.1 – совершившие новое ООД в отчетном году (по РФ снижение показателя в течение 10 лет с 5 до 3,2% в 2018г., 3,9% в 2019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Не поступившие в ПС после ПН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Состав больных, находящихся на принудительном лечении в психиатрических стационар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отношение видов ПЛ (гр.14 стр.9 и 11 к сумме стр.5 и 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Длительность стационарного П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ичины длительности пребывания (от 5 до 10 лет и больше 10 лет – 22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ценка летальности (по РФ 1,5 % в 2018г., 1,3 % в 2019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Фиксировать нападения больных в период ПЛ (224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6:52:47Z</dcterms:created>
  <dc:creator>gv</dc:creator>
  <dc:description/>
  <dc:language>en-US</dc:language>
  <cp:lastModifiedBy>Елена Александровна Бронникова</cp:lastModifiedBy>
  <cp:lastPrinted>2017-12-07T17:18:35Z</cp:lastPrinted>
  <dcterms:modified xsi:type="dcterms:W3CDTF">2020-12-09T01:10:46Z</dcterms:modified>
  <cp:revision>802</cp:revision>
  <dc:subject/>
  <dc:title>Таблица 1 Состав невменяемых психически больных по характеру рекомендованных медицинских мер (в %) в 2005 г. Дальневосточный федеральный округ РФ</dc:title>
</cp:coreProperties>
</file>