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F9DD-0C25-4921-816A-A60C2F56BC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BCFA-5E6E-48AD-B418-1EAAE7D41D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5FBD-0EB5-448A-89AB-C45AC0A585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342C-068D-4A21-A128-5ECCB7DAEC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B65F-D509-4F31-870F-BFE62B40EA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E7BA-A5E1-420E-9400-44818F06F6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F8BB-DC54-459D-9FB3-04DF71D025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C1C7-D463-4CE3-89DD-3955752A81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E69E-9C7C-478F-A9E2-EB3C4D2737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6DB3-70E6-420B-AA96-91954CDE2C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D15B-DFD7-4C6A-B98C-C9B9518DB9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C36B-D841-4A60-86E6-12DEAC9A0C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EE0E-8A26-4E79-8F86-6F0311F864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0C98-DBC0-47CE-A215-19266F6AFB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F539-CC98-424A-9139-425844FFA9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FC6F-BB9B-461E-B082-2E056DE6AB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203D-45D7-4D2B-B6C9-06D3CB47E8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52B0-AA68-4E7B-860C-CBF152905B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FFFF-4873-468D-894F-3EC84DE86B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9FC6-6FF5-4C46-98B8-A351DED59C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F3C7-6BC1-420A-950A-57E736FC51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0798-CD8A-4FB6-BCEB-B58FF4A701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F36F-7AC5-4B8C-B444-C9DF194874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EED3-1CAA-419A-8C4B-64C3823817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F344-6DF5-4B19-89C3-F5CA911F85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1339-C5C5-4FEA-A6E9-C3B2F7A64E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488A-73D1-4EF4-8BBF-F1262EEE16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2BC6-A5A4-453F-A4D2-225E6F93D5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5A42-79DA-4A83-963F-1E0B29DE38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949E-EB65-4535-ABDA-779ABA5FA1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0664-F645-480D-8CC6-184D6E8687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C81F-781E-4A01-BE2F-D8220167A4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C183-687E-419D-8AAF-9F55809411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BDE2-514D-4CB5-9E2C-AD2DEF7197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7C2B-E80B-4A3B-B5B0-09020A6FE7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7D61-B7F6-49C6-8784-987AEC46EF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9E9D-1F5D-43D4-B493-A9A29AF1E1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A95D-83E6-45AA-8735-E6BE71956F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8ECC-C385-4DED-998D-447E571056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D78D-A3BD-4004-AB3E-35E8A3177E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27B8-B8AA-4B0C-9A39-C872C1DC5A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16B9-4CA6-425A-80E3-3C98F5BAC5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2277-EB68-45E1-8E1D-4275544994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720E-018B-4705-B262-8C9DBC464B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A567-CB67-4789-9D4A-C9DC5DE7CE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C1BF-D839-4C06-92C4-76F0758C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7E06-761C-4277-9B8B-EB286356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1C79-9572-4D03-A77F-34D0067F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63FC-6056-4B26-A1FC-CDF80360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ED5-3EFC-4C17-BC0B-8242EC69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1CC-9B1A-423D-92E1-F629CCEF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D186-F838-4EE4-9DAC-D2B51155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63C8-E06F-4BEC-92F2-F6AE9125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DA50-AA50-4A08-ADDB-5C2D9A3A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6DAB-98B7-4705-BAA9-1FA82DC3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057D-7D85-4BC8-A32F-E3277AAE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98DD-496B-432D-BB10-06C13F5F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7CDA-BA45-41EA-BF97-164129906F1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20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28640"/>
          <a:ext cx="8229600" cy="5004000"/>
        </p:xfrm>
        <a:graphic>
          <a:graphicData uri="http://schemas.openxmlformats.org/drawingml/2006/table">
            <a:tbl>
              <a:tblPr/>
              <a:tblGrid>
                <a:gridCol w="1297080"/>
                <a:gridCol w="503280"/>
                <a:gridCol w="950760"/>
                <a:gridCol w="1096920"/>
                <a:gridCol w="1095480"/>
                <a:gridCol w="1095480"/>
                <a:gridCol w="1095120"/>
                <a:gridCol w="1095480"/>
              </a:tblGrid>
              <a:tr h="54828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Число физических лиц» показывают только основных работников, имеющих трудовую книжку в данной медицинск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(всего) должна быть равна сумме строк 1, 2, 3, 4 по графам 3, 4, 5, 6, 7, 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212760" y="1197000"/>
            <a:ext cx="88232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3=141.1000.1.03+141.1000.2.03+141.1000.3.03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4=141.1000.1.04+141.1000.2.04+141.1000.3.04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5=141.1000.1.05+141.1000.2.05+141.1000.3.05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17440" y="1197000"/>
            <a:ext cx="87519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, включая стационары на дом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6=141.1000.1.06 + 141.1000.2.06 +141.1000.3.06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7=141.1000.1.07 + 141.1000.2.07 +141.1000.3.07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8=141.1000.1.08 + 141.1000.2.08 +141.1000.3.08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9280" y="1484280"/>
          <a:ext cx="8496360" cy="50990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64296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628640"/>
          <a:ext cx="8497800" cy="4853160"/>
        </p:xfrm>
        <a:graphic>
          <a:graphicData uri="http://schemas.openxmlformats.org/drawingml/2006/table">
            <a:tbl>
              <a:tblPr/>
              <a:tblGrid>
                <a:gridCol w="649440"/>
                <a:gridCol w="431640"/>
                <a:gridCol w="539640"/>
                <a:gridCol w="5414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от 9 декабря 1999 г. № 438 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7960" y="155736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6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238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указываются данные о числе выписанных детей до 3 лет и проведенными ими пациенто-дн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320" y="58680"/>
            <a:ext cx="87138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0160" y="928800"/>
          <a:ext cx="8496000" cy="5742000"/>
        </p:xfrm>
        <a:graphic>
          <a:graphicData uri="http://schemas.openxmlformats.org/drawingml/2006/table">
            <a:tbl>
              <a:tblPr/>
              <a:tblGrid>
                <a:gridCol w="1079280"/>
                <a:gridCol w="412920"/>
                <a:gridCol w="647640"/>
                <a:gridCol w="503280"/>
                <a:gridCol w="504720"/>
                <a:gridCol w="503280"/>
                <a:gridCol w="576360"/>
                <a:gridCol w="720720"/>
                <a:gridCol w="576000"/>
                <a:gridCol w="576360"/>
                <a:gridCol w="503280"/>
                <a:gridCol w="720720"/>
                <a:gridCol w="647640"/>
                <a:gridCol w="523800"/>
              </a:tblGrid>
              <a:tr h="365400"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-годо-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го-до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нек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-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Box 5"/>
          <p:cNvSpPr/>
          <p:nvPr/>
        </p:nvSpPr>
        <p:spPr>
          <a:xfrm>
            <a:off x="2898720" y="380052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820880" y="421956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394160" y="42195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858000" y="42148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6835680" y="46213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394160" y="4695840"/>
            <a:ext cx="87948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50072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685800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1816200" y="56293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2901960" y="6207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5643720" y="37861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8151840" y="37544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8070840" y="46465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8070840" y="6215040"/>
            <a:ext cx="83664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5721480" y="61642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5721480" y="45813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5721480" y="51084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2832120" y="5118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8070840" y="50896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 графам 15-26 указываются сведения о числе коек, выписанных пациентах и проведенных ими пациенто-днях в дневных стационарах медицинских организаций, оказывающих помощь в амбулаторных условиях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я стационары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ах 2 - 75 по графам 15-26 заполняются данные только о работе дневных стационаров медицинских  организаций, оказывающих помощь в амбулаторных условиях по профиля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тационаров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331640"/>
            <a:ext cx="82296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1080" y="1214280"/>
            <a:ext cx="8605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4320" y="1082520"/>
            <a:ext cx="860580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64600" y="1315800"/>
            <a:ext cx="83012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93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1268280"/>
            <a:ext cx="8535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2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28760" y="765000"/>
          <a:ext cx="8286480" cy="596124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552600"/>
                <a:gridCol w="722160"/>
                <a:gridCol w="814320"/>
                <a:gridCol w="695520"/>
                <a:gridCol w="931680"/>
                <a:gridCol w="812880"/>
                <a:gridCol w="814320"/>
              </a:tblGrid>
              <a:tr h="1461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76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1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14440" y="765000"/>
          <a:ext cx="8001000" cy="5793120"/>
        </p:xfrm>
        <a:graphic>
          <a:graphicData uri="http://schemas.openxmlformats.org/drawingml/2006/table">
            <a:tbl>
              <a:tblPr/>
              <a:tblGrid>
                <a:gridCol w="2544840"/>
                <a:gridCol w="288720"/>
                <a:gridCol w="590760"/>
                <a:gridCol w="718920"/>
                <a:gridCol w="865080"/>
                <a:gridCol w="648000"/>
                <a:gridCol w="693720"/>
                <a:gridCol w="825480"/>
                <a:gridCol w="825480"/>
              </a:tblGrid>
              <a:tr h="30492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356840"/>
            <a:ext cx="839124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9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2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+141.3000.21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+141.3500.22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, включая стационары на дому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+141.3000.21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+141.3500.22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30 декабря 2002 г. № 413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от 30.12.2002 г. № 413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13 ноября 2003 г. № 548 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Елена Александровна Бронникова</cp:lastModifiedBy>
  <cp:lastPrinted>2020-12-02T13:53:05Z</cp:lastPrinted>
  <dcterms:modified xsi:type="dcterms:W3CDTF">2020-12-09T01:39:18Z</dcterms:modified>
  <cp:revision>379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